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8.wmf" ContentType="image/x-wmf"/>
  <Override PartName="/ppt/media/image40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6.png" ContentType="image/png"/>
  <Override PartName="/ppt/media/image48.png" ContentType="image/png"/>
  <Override PartName="/ppt/media/image51.wmf" ContentType="image/x-wmf"/>
  <Override PartName="/ppt/media/image50.wmf" ContentType="image/x-wmf"/>
  <Override PartName="/ppt/media/image30.png" ContentType="image/png"/>
  <Override PartName="/ppt/media/image13.wmf" ContentType="image/x-wmf"/>
  <Override PartName="/ppt/media/image52.wmf" ContentType="image/x-wmf"/>
  <Override PartName="/ppt/media/image53.png" ContentType="image/png"/>
  <Override PartName="/ppt/media/image28.png" ContentType="image/png"/>
  <Override PartName="/ppt/media/image31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media/image49.wmf" ContentType="image/x-wmf"/>
  <Override PartName="/ppt/media/image12.wmf" ContentType="image/x-wmf"/>
  <Override PartName="/ppt/media/image27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59636A-8977-4833-A570-3798754E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6ABD44-4A54-4F95-BF51-3D20863B8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97D540-CD3D-402D-A1D0-AD2E92207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E0816B-A744-492F-BC3B-D47EE13A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3C085D-5088-4C9D-9C80-423F1E6E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524E24-5DFE-4AB3-8B2C-880F14A3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9FF94A-B769-4C83-9021-EE84A676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26806B-AA74-4F96-945F-B1BE4D9E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B71A62-541C-4657-8AE7-CDAC1504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3C53FD-7791-493F-B2A5-9C65026F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558DD1-2FDD-4441-BD4F-CAB406E8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9004EB-83C6-418C-9E07-12203E6B1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AC5BC8-B04C-4A92-B4CF-751703E3F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DEFFDF-9F70-4B80-A5DC-0424034C2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004987-2369-4FCC-AF44-90C064E4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E1F308-2557-4612-9ACD-BD298FCAE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1964D7-C12A-4D02-818A-C43023BBD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335169-2830-4837-BEDB-AD555692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15D517-C011-4FC5-9AE9-8DAC9B1B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A8FE0B-E681-4BCE-960B-06A366C6E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6B8E30-3535-4DB2-B5C2-3DD5123DD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98C3BD-9908-482E-8C2F-5AA64E675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2F901E-0321-49DA-B9A5-E29D63EE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779E4F-8221-4980-BD44-94B82A045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8489B2-0879-4FC8-A56C-FA9E1EAD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748415-648C-4E85-B1B0-661A7CBF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027BB5-16C8-4F48-AD91-2B6BFFC26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9649CC-ACF4-4549-9CE8-F99269170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E0B155-B84A-46AA-94C0-4CEDFD6E5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0D0067-D6A2-4C49-AE3A-866D0370A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6F18F0-9679-41B4-99F9-1D30AD28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D22F10-A150-4E38-A306-9B933697A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4ADDF3-84D5-4588-9DE9-206E9E359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2053B6-B177-4C93-859B-1B068F02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61F844-3C24-429B-B5F1-D79A79F9C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1E85C7-C74E-46D5-94A9-4C9CDCDA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268612-3CB5-4C83-8778-0BF097F0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B419A9-1A6F-4FA1-8C43-7A89357A5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09A01E-AAAD-4430-9117-001171D6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64A756-FF66-4302-963E-17C3DC9A7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258B25-39BC-411B-9984-3F11A5F6C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219FF0-BA97-42BB-8597-1C097318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70EA14-AE4D-42FD-B336-93364D647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4D9A9E-B473-46EA-B57D-47592DB2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8F96B9-E41F-43DC-B924-322662F9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1CD075-DD59-4135-B727-CF10C4EA5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A9E238-8DD5-4E93-B588-E8CF9E099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AF4739-4B27-4DF6-B7A0-29728322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131EEC-0D61-4C29-8E3A-A660134B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98F893-21CF-4EB9-9D0C-29E7C823A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B992F8-9B59-448A-89F8-6345F0A8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CEE783-EE25-4B2B-8005-E52083AE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118398-61D0-4854-902B-0904CE37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3ECF9A-040E-46D4-B472-347C92EB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0F7B8A-399F-4832-8D17-9C6E5A09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2A6B7F-3351-4362-9F33-2A5DFB7D8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E10351-F454-41D8-859A-8A4F91CA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3EFB45-5912-4FB7-BC47-01F3B497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7355BF-46A5-4BC5-B10E-95559DE0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01B8EF-8462-4943-880C-F51AB3BE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6C2473-0F3F-478D-B6C3-13F8565F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C2CCD3-1BB4-49BD-A6BA-B3C9A606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5829E5-92CD-4CE0-89CE-1A34F848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B87C2A-5EC6-498F-B1DF-1A434338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C56783-6756-4288-9B1C-F2A579F7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F601A2-3058-4872-A526-35F15F643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D25487-07DE-4751-B88E-7D407CDE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C34EA7-BDFF-4763-8F9A-DABC07F1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CE1861-EA59-4D74-86CC-B60DEC0D4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591B8-5B11-4B65-A27D-41111D3AB08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FD106-510D-4933-B894-25D9958E28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F215C-4F68-47F9-A778-16D02120EB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F89C3-195C-4B2B-A0D4-49A8242E51E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832A3-BE54-44BD-A67B-A3691DDFE9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B73FB-7D23-4FD2-8B5E-0553784D29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AC91D-6A72-454E-9A01-E2CD3DD634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BE9B2-75F2-4B3F-AB95-EE1FBA17796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DA506-1CEB-4C9C-8214-11639D931A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4F53-1D7E-49D7-A2DB-C5D7E0CC1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2E36-A7B5-482F-B826-EF903AF719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2B48-1AAC-48CA-AA05-EA82B1466A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44F0-9D56-4818-BCA7-BBFB50DDE9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8B6C-C0EB-4C7F-B824-31A7B0AFCD9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C0BA-92E7-4CAB-AA13-1CB28ACA68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D066-6041-40D2-B774-CCB2131BAB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6B11-DBD6-4C90-9F64-4CD871118BE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339C-7677-4A7A-BBA8-36EF0F7DBD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1DD9-8CEE-4600-937A-6C14280F87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8072-FBCF-4E31-8C75-824BC7F72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7C90-831E-4E7F-BD3A-B0A1DE91E60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79C91-0A98-4337-B2D3-915FEFFAF6C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4EF13-D260-47C3-BD8C-EF6CFEB819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AE5E2-8B0D-430D-B404-AB0744152F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AE720-9C61-452C-86E8-A99BB5C23C8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7F6A1-59DA-4A51-AFF7-4B65371D838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13AFC-6DF8-47B2-A1B6-34DCBF3D6CE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E1E95-3709-4099-B59C-287B85989E1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AD462-1827-44AB-9F68-F51D4599F9A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0C6BE-4E1D-4379-8195-7A3263855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D9A4-E20C-4E34-B4DB-AC57F932351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B2AF4-6BB9-4CF3-BC21-FFD51D65E3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18797-06AC-4C5A-A7B3-B26B6B18DB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8A7C7-6D03-468A-9FC4-E9C8C1A683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EBD5-8760-4436-A1C2-1DCF0940FC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B4CC-F174-4633-8826-5C452BC32B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FCBC-51F2-4DC1-BBF0-BF20EA4A58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46DE-F3AF-453F-81EF-5104B55066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E4BC-F59C-42FA-A1FA-70D88EB58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F977-CE95-4F56-88B2-06784EEC3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76E6-9415-4352-9665-E2D7AA5D85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51CA-168E-4C19-AB9F-F00990D0B1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0B5D-0CCE-4600-B3E7-32632AB9BB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17D8-A355-4530-BB1E-85FD2CFF74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70E3-87FF-408E-8CD6-E78DD70440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1ABB-0960-4A09-82FF-F5714E4E94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CF11-56F3-4D78-9F7A-3AF0FCEE7A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96C0-FA8B-41AC-8387-9E27EE49ED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75EA-ACB4-48A9-8A02-17FB17B7E2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C7D9-59D7-4DED-85D1-8E2FBC552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E5BA-4F90-42BB-A9D2-5D51F5FF0C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E6B5-C9C6-4CC1-B40A-F56EDAE6A5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5B43-565A-49D4-BAB7-1722552699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44B8-4655-46C6-A4C2-A25EEB986F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E9D2-F95E-4596-9B64-5ECCA59012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3D2F-7B01-4F81-BDB4-A7F06DE600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197E-187F-48FE-B4A1-63A35DFFDC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802-8753-47DF-A10B-49AE947635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EC0-10BC-439A-837C-70BDF5731F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90D-EA0C-4448-ABB5-3F19D5140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405-A5AC-45C1-B30B-B3773356E7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EE0-36F1-4CA7-B98C-9F4B8D0B6F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F42-0F5F-4EB1-83C2-AE9794F2FA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B9F-C016-4A53-9647-74904CE884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01A-92E0-4388-8052-6B9F668B22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B53-9680-43BF-B9A9-E7167BC919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B0C-D7B7-4EB4-93B7-E50E82221B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75A-EEE9-402B-B173-E38BD19514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FA6-070F-40F4-B010-A204F197777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6AADB-BBBF-49A9-BA99-7FCA932E6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E584F-9C9E-4B69-AE66-3006AA60B0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490D1-58FB-44F8-9896-C7DF6FA2203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59544-B57D-43D8-A7DB-0A4B8B7A917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A9564-9D53-4BB4-952B-EBC152A7B57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B99D1-C62C-4D4C-BEBA-B2F347161B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48B73-BAD5-4D60-A33C-8AB433F0C38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87680-76F3-44D7-AC22-B9E2AE6E6FD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30D65-3DBE-40C5-98BB-83D37A7B7C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9D1C1-EA14-4790-84EB-1492163039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24456-F3FE-4C6A-8619-798B05B5A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5024C-8BB3-45C4-B25C-877D3B7A01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F673C-065D-431A-B6D9-F08E4D9F18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4C60-4600-4E30-B92D-65BDB532F0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12D29-6ED1-460A-8CEF-A646831369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F1021-6BD2-4EC6-B52B-D1A59FBDA4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421B6-0413-4F37-BEF4-4CC5D26F49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23436-F8A3-4DA8-8957-9C093F5FEE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C172C-F7CE-4FED-A661-F8CBD54D9C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0DF86-4FE0-4C85-A7AC-E7FA408473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8CB5A-CC88-491C-BD76-DF1A8B463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89EB1-EB39-44BD-BF8B-3B881395D8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F6DB2-0067-4FCC-948E-BEDA5E5AC6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DB50D-BD95-4952-8D14-0D2B22B1410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45F2-AED3-460F-8B91-A5E3C55E4A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DF66-4A3D-4213-B7C9-25384A6BE10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C100-DC3A-4364-862C-35F92F653B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EE74-B62B-4625-8F3C-8D7466C6B0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2AE3-3CBD-4FFB-9411-1C653AE5FD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A43F-DAC9-435A-ACE9-FEB8A663DC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18E9-3741-4DDD-96F2-9D9D96BBB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2CA4-66A5-4930-9C0F-44B0CDE1510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D67C-9C56-4BBD-A9B8-4D6F11E292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FCF7-C53B-4C67-9F74-2E58D70B73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B10E-10B0-4EF6-A5E4-E360302487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F03D-8902-441D-B934-249F5FF41A4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C1F63-84AF-4F97-898F-7431995ADF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3C6DD-EC57-4A50-AE53-94062936068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9B093-BFA7-41DB-8B9E-6240B8C2A68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24A8A-C6A2-43DC-A43C-3127A8653C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F6B85-F1B5-4751-AC9C-AE8A770F7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59443-2216-4C66-8D5D-CCC08191F0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38504-51DA-4B81-862E-2D7A8D141B0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6157D0-6150-480C-BF61-22A21741B1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479F6-CEAE-43FF-A90F-E8C096FD3E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DDF37-0033-4DE4-9D56-2E6094FCED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A6F1B1-A247-4EC2-9F39-F9A6D8154B9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6E322-0B82-4700-A58A-A459446F30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070A1-D7D0-434A-9055-D58DE07569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1253D-8198-437D-8B2D-579F962013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77279-950A-4654-B1DB-E5E80375E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Num" idx="9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F5DF-3D46-4AA3-9A92-0509CE25E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indent="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1" marL="114480" indent="-108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2" marL="459000"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3" marL="67572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4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5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6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0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BBF7-724A-43C9-8CF1-201EAD8D3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9"/>
          <p:cNvSpPr/>
          <p:nvPr/>
        </p:nvSpPr>
        <p:spPr>
          <a:xfrm flipV="1">
            <a:off x="0" y="-720"/>
            <a:ext cx="9144000" cy="1600200"/>
          </a:xfrm>
          <a:prstGeom prst="rect">
            <a:avLst/>
          </a:prstGeom>
          <a:solidFill>
            <a:srgbClr val="f9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7" name="Rectangle 10"/>
          <p:cNvSpPr/>
          <p:nvPr/>
        </p:nvSpPr>
        <p:spPr>
          <a:xfrm>
            <a:off x="0" y="1600200"/>
            <a:ext cx="457200" cy="5257800"/>
          </a:xfrm>
          <a:prstGeom prst="rect">
            <a:avLst/>
          </a:prstGeom>
          <a:solidFill>
            <a:srgbClr val="a0c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8" name="Line 11"/>
          <p:cNvSpPr/>
          <p:nvPr/>
        </p:nvSpPr>
        <p:spPr>
          <a:xfrm flipH="1">
            <a:off x="0" y="1600200"/>
            <a:ext cx="914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6999480" y="194040"/>
            <a:ext cx="17162280" cy="2779560"/>
          </a:xfrm>
          <a:prstGeom prst="rect">
            <a:avLst/>
          </a:prstGeom>
          <a:solidFill>
            <a:srgbClr val="fdc382"/>
          </a:solidFill>
          <a:ln w="0">
            <a:noFill/>
          </a:ln>
          <a:effectLst>
            <a:outerShdw dist="63504" dir="2216091" blurRad="0" rotWithShape="0">
              <a:srgbClr val="5f5f5f"/>
            </a:outerShdw>
          </a:effectLst>
        </p:spPr>
        <p:txBody>
          <a:bodyPr lIns="182880" rIns="18288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-2732400"/>
            <a:ext cx="7315200" cy="142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Click to edit the outline text format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1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econd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2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Third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3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Four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4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Fif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5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ix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6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even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EAAF-8A80-4F5D-88EE-DC224B5A4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c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 flipV="1">
            <a:off x="0" y="0"/>
            <a:ext cx="9144000" cy="457200"/>
          </a:xfrm>
          <a:prstGeom prst="rect">
            <a:avLst/>
          </a:prstGeom>
          <a:solidFill>
            <a:srgbClr val="f9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457200"/>
            <a:ext cx="914400" cy="6400800"/>
          </a:xfrm>
          <a:prstGeom prst="rect">
            <a:avLst/>
          </a:prstGeom>
          <a:solidFill>
            <a:srgbClr val="f0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0" y="457200"/>
            <a:ext cx="914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219320" y="761760"/>
            <a:ext cx="777240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030480" indent="-11736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37356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5C47-FEDC-4DB8-A7F5-F96ED47B3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vantGar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 flipH="1">
            <a:off x="151920" y="457200"/>
            <a:ext cx="8991720" cy="0"/>
          </a:xfrm>
          <a:prstGeom prst="line">
            <a:avLst/>
          </a:prstGeom>
          <a:ln w="38160">
            <a:solidFill>
              <a:srgbClr val="67b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90720" y="1255320"/>
            <a:ext cx="723888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5000"/>
              </a:lnSpc>
              <a:spcAft>
                <a:spcPts val="700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30168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3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2915-3615-414B-86E2-2612B7DD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title"/>
          </p:nvPr>
        </p:nvSpPr>
        <p:spPr>
          <a:xfrm>
            <a:off x="762120" y="5331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685800" y="76320"/>
            <a:ext cx="0" cy="6781680"/>
          </a:xfrm>
          <a:prstGeom prst="line">
            <a:avLst/>
          </a:prstGeom>
          <a:ln w="38160">
            <a:solidFill>
              <a:srgbClr val="67b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09120" y="460080"/>
            <a:ext cx="7543800" cy="287676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 fontScale="99000"/>
          </a:bodyPr>
          <a:p>
            <a:pPr marL="790200" indent="0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95A4-9E6F-48A9-9F3C-ED68FDFD7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5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1CB-39B5-48A8-9B77-B8E46C007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914400" y="1600200"/>
            <a:ext cx="8229600" cy="0"/>
          </a:xfrm>
          <a:prstGeom prst="line">
            <a:avLst/>
          </a:prstGeom>
          <a:ln w="25560">
            <a:solidFill>
              <a:srgbClr val="5ad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0" y="5867280"/>
            <a:ext cx="8229600" cy="0"/>
          </a:xfrm>
          <a:prstGeom prst="line">
            <a:avLst/>
          </a:prstGeom>
          <a:ln w="25560">
            <a:solidFill>
              <a:srgbClr val="5ad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body"/>
          </p:nvPr>
        </p:nvSpPr>
        <p:spPr>
          <a:xfrm>
            <a:off x="1371600" y="1631520"/>
            <a:ext cx="7238880" cy="34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64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8080" indent="-64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6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184A-9ACE-45C9-9D86-8DE16FDE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indent="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1" marL="114480" indent="-108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2" marL="459000"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3" marL="67572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4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5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6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5D26-FB9B-4726-BD45-58E03F896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Num" idx="8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45D3-21F6-4749-AED7-0A98F5BA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body"/>
          </p:nvPr>
        </p:nvSpPr>
        <p:spPr>
          <a:xfrm>
            <a:off x="914400" y="1455840"/>
            <a:ext cx="7315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Click to edit the outline text format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1" marL="463680" indent="-64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econd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2" marL="914400"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Third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3" marL="1378080" indent="-64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Four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4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Fif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5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ix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6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even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9955-8DA3-4F5E-9BA5-6D08093A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25400" y="194040"/>
            <a:ext cx="1720800" cy="2779560"/>
          </a:xfrm>
          <a:prstGeom prst="rect">
            <a:avLst/>
          </a:prstGeom>
          <a:solidFill>
            <a:srgbClr val="fdc382"/>
          </a:solidFill>
          <a:ln w="0">
            <a:noFill/>
          </a:ln>
          <a:effectLst>
            <a:outerShdw dist="63504" dir="2216091" blurRad="0" rotWithShape="0">
              <a:srgbClr val="5f5f5f"/>
            </a:outerShdw>
          </a:effectLst>
        </p:spPr>
        <p:txBody>
          <a:bodyPr lIns="182880" rIns="18288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3919320"/>
            <a:ext cx="73152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d99ff"/>
                </a:solidFill>
                <a:latin typeface="Arial"/>
              </a:rPr>
              <a:t>Grafika i Java 2D</a:t>
            </a:r>
            <a:r>
              <a:rPr b="0" lang="en-US" sz="6000" spc="-1" strike="noStrike">
                <a:solidFill>
                  <a:srgbClr val="4d99ff"/>
                </a:solidFill>
                <a:latin typeface="Arial"/>
                <a:ea typeface="Arial"/>
              </a:rPr>
              <a:t>™</a:t>
            </a: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62F0-8966-4025-8FAA-1CF06028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12.2  Graphics Contexts and Graphics Objects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fički kontekst u Javi omogućava crtanje na ekran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Upravlja grafičkim kontekstom i crta pikse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pstraktna klas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doprinosi poratbilnosti Ja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risti se za crtan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 klas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JCompon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ja je podklas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mpon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at podrazumijevano se predaje metodu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d strane sistema kada lak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ing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ponen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 treba da se ponovo iscr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ko programer ima potrebu da izvrši 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oziva se 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pai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91E9-77F3-4CA3-8536-D796A5B78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3  </a:t>
            </a:r>
            <a:r>
              <a:rPr b="1" lang="hr-HR" sz="3600" spc="-1" strike="noStrike">
                <a:solidFill>
                  <a:srgbClr val="f9a75e"/>
                </a:solidFill>
                <a:latin typeface="Arial"/>
              </a:rPr>
              <a:t>Kontrola boja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lor de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met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e i konstante za manipulisanje boja 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 program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vaka boja kreira se kao kombinacija crvene, zelene i plave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d, green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ue component – RGB value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3799-CC0F-4EE3-897D-A3AE8A5C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or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stant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e i njihov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GB v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rijedn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Object 3"/>
          <p:cNvGraphicFramePr/>
          <p:nvPr/>
        </p:nvGraphicFramePr>
        <p:xfrm>
          <a:off x="973080" y="1981080"/>
          <a:ext cx="6980400" cy="31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981080"/>
                    <a:ext cx="69804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6E4-5172-442B-9DE9-DB79BB49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Color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i 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ovezani sa bojama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5"/>
          <p:cNvGraphicFramePr/>
          <p:nvPr/>
        </p:nvGraphicFramePr>
        <p:xfrm>
          <a:off x="1084320" y="880920"/>
          <a:ext cx="703260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880920"/>
                    <a:ext cx="703260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9784-C78F-4D6C-8EDF-CF141B28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0" y="3240"/>
          <a:ext cx="70372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0372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" name="Group 8"/>
          <p:cNvGrpSpPr/>
          <p:nvPr/>
        </p:nvGrpSpPr>
        <p:grpSpPr>
          <a:xfrm>
            <a:off x="3962520" y="1371600"/>
            <a:ext cx="3581280" cy="580680"/>
            <a:chOff x="3962520" y="1371600"/>
            <a:chExt cx="3581280" cy="580680"/>
          </a:xfrm>
        </p:grpSpPr>
        <p:sp>
          <p:nvSpPr>
            <p:cNvPr id="486" name="Text Box 9"/>
            <p:cNvSpPr/>
            <p:nvPr/>
          </p:nvSpPr>
          <p:spPr>
            <a:xfrm>
              <a:off x="4419720" y="1371600"/>
              <a:ext cx="312408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JPanel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87" name="Line 10"/>
            <p:cNvSpPr/>
            <p:nvPr/>
          </p:nvSpPr>
          <p:spPr>
            <a:xfrm flipH="1">
              <a:off x="3962520" y="1752480"/>
              <a:ext cx="4572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488" name="Group 14"/>
          <p:cNvGrpSpPr/>
          <p:nvPr/>
        </p:nvGrpSpPr>
        <p:grpSpPr>
          <a:xfrm>
            <a:off x="4038480" y="2438280"/>
            <a:ext cx="4572000" cy="838440"/>
            <a:chOff x="4038480" y="2438280"/>
            <a:chExt cx="4572000" cy="838440"/>
          </a:xfrm>
        </p:grpSpPr>
        <p:sp>
          <p:nvSpPr>
            <p:cNvPr id="489" name="Text Box 12"/>
            <p:cNvSpPr/>
            <p:nvPr/>
          </p:nvSpPr>
          <p:spPr>
            <a:xfrm>
              <a:off x="5486400" y="2438280"/>
              <a:ext cx="312408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davanje podrazumijevane boje primjenom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Color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90" name="Line 13"/>
            <p:cNvSpPr/>
            <p:nvPr/>
          </p:nvSpPr>
          <p:spPr>
            <a:xfrm flipH="1">
              <a:off x="4038480" y="281952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491" name="Text Box 16"/>
          <p:cNvSpPr/>
          <p:nvPr/>
        </p:nvSpPr>
        <p:spPr>
          <a:xfrm>
            <a:off x="5562720" y="3048120"/>
            <a:ext cx="312408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Obojeni pravougaonik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92" name="Line 17"/>
          <p:cNvSpPr/>
          <p:nvPr/>
        </p:nvSpPr>
        <p:spPr>
          <a:xfrm flipH="1">
            <a:off x="3428640" y="32767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493" name="Group 28"/>
          <p:cNvGrpSpPr/>
          <p:nvPr/>
        </p:nvGrpSpPr>
        <p:grpSpPr>
          <a:xfrm>
            <a:off x="1523880" y="3809520"/>
            <a:ext cx="7239240" cy="337680"/>
            <a:chOff x="1523880" y="3809520"/>
            <a:chExt cx="7239240" cy="337680"/>
          </a:xfrm>
        </p:grpSpPr>
        <p:sp>
          <p:nvSpPr>
            <p:cNvPr id="494" name="Text Box 23"/>
            <p:cNvSpPr/>
            <p:nvPr/>
          </p:nvSpPr>
          <p:spPr>
            <a:xfrm>
              <a:off x="5638680" y="3809880"/>
              <a:ext cx="312444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Tekst u tekućoj boji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95" name="Line 24"/>
            <p:cNvSpPr/>
            <p:nvPr/>
          </p:nvSpPr>
          <p:spPr>
            <a:xfrm flipH="1" flipV="1">
              <a:off x="4114440" y="380952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 flipH="1" flipV="1">
              <a:off x="1523880" y="3809520"/>
              <a:ext cx="4114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497" name="Group 32"/>
          <p:cNvGrpSpPr/>
          <p:nvPr/>
        </p:nvGrpSpPr>
        <p:grpSpPr>
          <a:xfrm>
            <a:off x="4724280" y="4343040"/>
            <a:ext cx="4038840" cy="581040"/>
            <a:chOff x="4724280" y="4343040"/>
            <a:chExt cx="4038840" cy="581040"/>
          </a:xfrm>
        </p:grpSpPr>
        <p:sp>
          <p:nvSpPr>
            <p:cNvPr id="498" name="Text Box 30"/>
            <p:cNvSpPr/>
            <p:nvPr/>
          </p:nvSpPr>
          <p:spPr>
            <a:xfrm>
              <a:off x="5638680" y="4343400"/>
              <a:ext cx="312444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davanje tekuće boje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gumen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 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stru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 flipV="1">
              <a:off x="4724280" y="43430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00" name="Group 36"/>
          <p:cNvGrpSpPr/>
          <p:nvPr/>
        </p:nvGrpSpPr>
        <p:grpSpPr>
          <a:xfrm>
            <a:off x="2971800" y="4876920"/>
            <a:ext cx="5791320" cy="580680"/>
            <a:chOff x="2971800" y="4876920"/>
            <a:chExt cx="5791320" cy="580680"/>
          </a:xfrm>
        </p:grpSpPr>
        <p:sp>
          <p:nvSpPr>
            <p:cNvPr id="501" name="Text Box 34"/>
            <p:cNvSpPr/>
            <p:nvPr/>
          </p:nvSpPr>
          <p:spPr>
            <a:xfrm>
              <a:off x="5638680" y="4876920"/>
              <a:ext cx="312444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davanje tekuće boje primjenom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stan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02" name="Line 35"/>
            <p:cNvSpPr/>
            <p:nvPr/>
          </p:nvSpPr>
          <p:spPr>
            <a:xfrm flipH="1">
              <a:off x="2971800" y="53341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C45E-CD63-439F-9EBA-7B236C6E5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06" name="Object 4"/>
          <p:cNvGraphicFramePr/>
          <p:nvPr/>
        </p:nvGraphicFramePr>
        <p:xfrm>
          <a:off x="0" y="1440"/>
          <a:ext cx="7056360" cy="214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5636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Group 14"/>
          <p:cNvGrpSpPr/>
          <p:nvPr/>
        </p:nvGrpSpPr>
        <p:grpSpPr>
          <a:xfrm>
            <a:off x="1981080" y="1143000"/>
            <a:ext cx="3276720" cy="2652840"/>
            <a:chOff x="1981080" y="1143000"/>
            <a:chExt cx="3276720" cy="2652840"/>
          </a:xfrm>
        </p:grpSpPr>
        <p:sp>
          <p:nvSpPr>
            <p:cNvPr id="509" name="Text Box 10"/>
            <p:cNvSpPr/>
            <p:nvPr/>
          </p:nvSpPr>
          <p:spPr>
            <a:xfrm>
              <a:off x="2133720" y="2971800"/>
              <a:ext cx="3124080" cy="82404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dređivanj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GB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vrijednosti primjenom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etR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etG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etBlu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10" name="Line 11"/>
            <p:cNvSpPr/>
            <p:nvPr/>
          </p:nvSpPr>
          <p:spPr>
            <a:xfrm flipH="1" flipV="1">
              <a:off x="1981080" y="1447560"/>
              <a:ext cx="15242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11" name="Line 12"/>
            <p:cNvSpPr/>
            <p:nvPr/>
          </p:nvSpPr>
          <p:spPr>
            <a:xfrm flipV="1">
              <a:off x="3505320" y="1143000"/>
              <a:ext cx="6094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12" name="Line 13"/>
            <p:cNvSpPr/>
            <p:nvPr/>
          </p:nvSpPr>
          <p:spPr>
            <a:xfrm flipV="1">
              <a:off x="3505320" y="1447560"/>
              <a:ext cx="3045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" dur="1" fill="hold"/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15CC-FEEC-4AEE-8D13-F939BF46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16" name="Object 4"/>
          <p:cNvGraphicFramePr/>
          <p:nvPr/>
        </p:nvGraphicFramePr>
        <p:xfrm>
          <a:off x="0" y="0"/>
          <a:ext cx="7056360" cy="62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8" name="Picture 6" descr="ShowColors"/>
          <p:cNvPicPr/>
          <p:nvPr/>
        </p:nvPicPr>
        <p:blipFill>
          <a:blip r:embed="rId3"/>
          <a:stretch/>
        </p:blipFill>
        <p:spPr>
          <a:xfrm>
            <a:off x="1752480" y="3984480"/>
            <a:ext cx="3505320" cy="15782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9FDC-E395-4B68-AC67-632CA58D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Look-and-Feel napomena 12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41560" y="1875960"/>
            <a:ext cx="739296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snici na različite način poimaju boje. Budite pažljivi pri izboru boja da bi vaša aplikacija bila čitljiva. Izbjegavajte upotrebu boja istog tonalitet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2D5D-1EB4-4FAC-865E-7E6FA7DB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141560" y="175212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 promijenili boju, morate kreirati novi objekat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 koristite jednu od predefinisanih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tant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i objekti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i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 mogu modifikovati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utable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91296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Projektovanje softvera 12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951-EE8B-4958-8F4E-42218655A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4  </a:t>
            </a:r>
            <a:r>
              <a:rPr b="1" lang="hr-HR" sz="3600" spc="-1" strike="noStrike">
                <a:solidFill>
                  <a:srgbClr val="f9a75e"/>
                </a:solidFill>
                <a:latin typeface="Arial"/>
              </a:rPr>
              <a:t>Upotreba fontova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Fo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nstru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r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ma tr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me fonta, stil i veličin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(engl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nt name, font style and font size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nt name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bilo koji font koji se može naći u sistemu na kojem se program izvršav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nt style –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PL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ITA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BOL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ogu se kombinovat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nt sizes – m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rna jedinica j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, koja iznso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72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inč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N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Sty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vraćaju informacije o objektu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o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Fo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setFon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vraćaju i zadaju tekući fo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255C-405D-433F-91E3-E7E1DEB1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vantGarde"/>
              </a:rPr>
              <a:t>     </a:t>
            </a:r>
            <a:endParaRPr b="1" lang="en-US" sz="14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18960" y="762120"/>
            <a:ext cx="7391160" cy="52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icture is worth ten thousand words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inese prover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reat nature in terms of the cylinder, the sphere, the cone, all in perspective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ul 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zann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lors, like features, follow the changes of the emotions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blo Picasso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hing ever becomes real till it is experienced—even a proverb is no proverb to you till your life has illustrated it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Kea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F139-9743-4A59-ABD1-3810000E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i i konstante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F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rv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Object 5"/>
          <p:cNvGraphicFramePr/>
          <p:nvPr/>
        </p:nvGraphicFramePr>
        <p:xfrm>
          <a:off x="712800" y="1467000"/>
          <a:ext cx="7694640" cy="346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1467000"/>
                    <a:ext cx="769464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BFF3-8ABB-4A0A-9FB1-CB4A1A8B2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i i konstante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F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Drug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863640" y="1219320"/>
          <a:ext cx="7461360" cy="39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219320"/>
                    <a:ext cx="74613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3333-CFA0-4931-97F1-244B0151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Napomena o portabilnosti 12.2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1200" y="2028960"/>
            <a:ext cx="7164360" cy="33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j fo</a:t>
            </a:r>
            <a:r>
              <a:rPr b="1" lang="sr-Latn-M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va koji su vam na raspologanju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isi 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vnog sistem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va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je pet logičkih imena fontova -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er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Monospac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ansSer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Dialo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DialogInput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–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i se mogu koristiti na svim Java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JRE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svim platformama preslikava ova logička imena u stvarne fontov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4811-9041-478A-AE8D-34F020824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42" name="Object 6"/>
          <p:cNvGraphicFramePr/>
          <p:nvPr/>
        </p:nvGraphicFramePr>
        <p:xfrm>
          <a:off x="0" y="4680"/>
          <a:ext cx="7056360" cy="56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4" name="Group 13"/>
          <p:cNvGrpSpPr/>
          <p:nvPr/>
        </p:nvGrpSpPr>
        <p:grpSpPr>
          <a:xfrm>
            <a:off x="4876920" y="3276720"/>
            <a:ext cx="4038480" cy="1600200"/>
            <a:chOff x="4876920" y="3276720"/>
            <a:chExt cx="4038480" cy="1600200"/>
          </a:xfrm>
        </p:grpSpPr>
        <p:sp>
          <p:nvSpPr>
            <p:cNvPr id="545" name="Text Box 9"/>
            <p:cNvSpPr/>
            <p:nvPr/>
          </p:nvSpPr>
          <p:spPr>
            <a:xfrm>
              <a:off x="5791320" y="3886200"/>
              <a:ext cx="312408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 i podešavanje osobin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F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46" name="Line 10"/>
            <p:cNvSpPr/>
            <p:nvPr/>
          </p:nvSpPr>
          <p:spPr>
            <a:xfrm flipH="1" flipV="1">
              <a:off x="4876920" y="3276720"/>
              <a:ext cx="914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47" name="Line 11"/>
            <p:cNvSpPr/>
            <p:nvPr/>
          </p:nvSpPr>
          <p:spPr>
            <a:xfrm flipH="1">
              <a:off x="5486040" y="4038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 flipH="1">
              <a:off x="53341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49" name="Text Box 16"/>
          <p:cNvSpPr/>
          <p:nvPr/>
        </p:nvSpPr>
        <p:spPr>
          <a:xfrm>
            <a:off x="2971800" y="2286000"/>
            <a:ext cx="114300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nt nam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50" name="Line 17"/>
          <p:cNvSpPr/>
          <p:nvPr/>
        </p:nvSpPr>
        <p:spPr>
          <a:xfrm flipH="1">
            <a:off x="2895120" y="2666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114800" y="2286000"/>
            <a:ext cx="114300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nt styl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52" name="Line 21"/>
          <p:cNvSpPr/>
          <p:nvPr/>
        </p:nvSpPr>
        <p:spPr>
          <a:xfrm flipH="1">
            <a:off x="365724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553" name="Group 22"/>
          <p:cNvGrpSpPr/>
          <p:nvPr/>
        </p:nvGrpSpPr>
        <p:grpSpPr>
          <a:xfrm>
            <a:off x="4343400" y="2666880"/>
            <a:ext cx="1600200" cy="533520"/>
            <a:chOff x="4343400" y="2666880"/>
            <a:chExt cx="1600200" cy="533520"/>
          </a:xfrm>
        </p:grpSpPr>
        <p:sp>
          <p:nvSpPr>
            <p:cNvPr id="554" name="Text Box 23"/>
            <p:cNvSpPr/>
            <p:nvPr/>
          </p:nvSpPr>
          <p:spPr>
            <a:xfrm>
              <a:off x="4800600" y="2666880"/>
              <a:ext cx="1143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nt siz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55" name="Line 24"/>
            <p:cNvSpPr/>
            <p:nvPr/>
          </p:nvSpPr>
          <p:spPr>
            <a:xfrm flipH="1">
              <a:off x="4343400" y="289548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Fontovi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39B-E4C6-4FD0-A1AF-97F6D1750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59" name="Object 4"/>
          <p:cNvGraphicFramePr/>
          <p:nvPr/>
        </p:nvGraphicFramePr>
        <p:xfrm>
          <a:off x="0" y="1440"/>
          <a:ext cx="7056360" cy="18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5636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1" name="Group 9"/>
          <p:cNvGrpSpPr/>
          <p:nvPr/>
        </p:nvGrpSpPr>
        <p:grpSpPr>
          <a:xfrm>
            <a:off x="4266720" y="76320"/>
            <a:ext cx="3429360" cy="457200"/>
            <a:chOff x="4266720" y="76320"/>
            <a:chExt cx="3429360" cy="457200"/>
          </a:xfrm>
        </p:grpSpPr>
        <p:sp>
          <p:nvSpPr>
            <p:cNvPr id="562" name="Text Box 7"/>
            <p:cNvSpPr/>
            <p:nvPr/>
          </p:nvSpPr>
          <p:spPr>
            <a:xfrm>
              <a:off x="5410080" y="76320"/>
              <a:ext cx="2286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bining styles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63" name="Line 8"/>
            <p:cNvSpPr/>
            <p:nvPr/>
          </p:nvSpPr>
          <p:spPr>
            <a:xfrm flipH="1">
              <a:off x="4266720" y="2286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64" name="Group 14"/>
          <p:cNvGrpSpPr/>
          <p:nvPr/>
        </p:nvGrpSpPr>
        <p:grpSpPr>
          <a:xfrm>
            <a:off x="2209680" y="914400"/>
            <a:ext cx="3353040" cy="1875960"/>
            <a:chOff x="2209680" y="914400"/>
            <a:chExt cx="3353040" cy="1875960"/>
          </a:xfrm>
        </p:grpSpPr>
        <p:sp>
          <p:nvSpPr>
            <p:cNvPr id="565" name="Text Box 11"/>
            <p:cNvSpPr/>
            <p:nvPr/>
          </p:nvSpPr>
          <p:spPr>
            <a:xfrm>
              <a:off x="2209680" y="2209680"/>
              <a:ext cx="335304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dređivanje imena i veličine tekućeg fonta u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aph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tu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H="1" flipV="1">
              <a:off x="3200040" y="914400"/>
              <a:ext cx="6094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3809880" y="990720"/>
              <a:ext cx="9144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C9DF-CDAC-4214-96DE-67847D50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71" name="Object 6"/>
          <p:cNvGraphicFramePr/>
          <p:nvPr/>
        </p:nvGraphicFramePr>
        <p:xfrm>
          <a:off x="0" y="0"/>
          <a:ext cx="7075440" cy="69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75440" cy="69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3" name="Picture 8" descr="Fonts"/>
          <p:cNvPicPr/>
          <p:nvPr/>
        </p:nvPicPr>
        <p:blipFill>
          <a:blip r:embed="rId3"/>
          <a:stretch/>
        </p:blipFill>
        <p:spPr>
          <a:xfrm>
            <a:off x="1219320" y="4367160"/>
            <a:ext cx="4647960" cy="188136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2567-025B-4121-A876-2BFEEA51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Projektovanje softvera 12.2 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41560" y="1959120"/>
            <a:ext cx="777384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 promijenili font, morate kreirati novi objekat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i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nepromjenljivi . Ova klasa nema </a:t>
            </a:r>
            <a:r>
              <a:rPr b="1" i="1" lang="en-US" sz="2800" spc="-1" strike="noStrike">
                <a:solidFill>
                  <a:srgbClr val="4f87c6"/>
                </a:solidFill>
                <a:latin typeface="Times New Roman"/>
                <a:ea typeface="Times New Roman"/>
              </a:rPr>
              <a:t>s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za promjenu svojstava tekućeg font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070-C99D-4D4D-9490-1C75210F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9a75e"/>
                </a:solidFill>
                <a:latin typeface="Arial"/>
              </a:rPr>
              <a:t>Font Metri</a:t>
            </a:r>
            <a:r>
              <a:rPr b="1" i="1" lang="hr-HR" sz="3600" spc="-1" strike="noStrike">
                <a:solidFill>
                  <a:srgbClr val="f9a75e"/>
                </a:solidFill>
                <a:latin typeface="Arial"/>
              </a:rPr>
              <a:t>ke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Metodi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etFami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vraća ime familije fonta kojoj tekući font pripa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sPl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sBol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sIta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dređuje stil fon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t metri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preci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cija o fon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(visin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ent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liki dio karaktera pada ispod osnovne linije (baselin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cent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liki dio karaktera se izdiže iznad osnovne lini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ing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razmak unutra re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Metr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adrži metoda za određivanje metrike fon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7373-0AA8-492C-B245-9C63EE1D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rika 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nt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3" descr="AAEMYSL0"/>
          <p:cNvPicPr/>
          <p:nvPr/>
        </p:nvPicPr>
        <p:blipFill>
          <a:blip r:embed="rId1"/>
          <a:stretch/>
        </p:blipFill>
        <p:spPr>
          <a:xfrm>
            <a:off x="914400" y="2317680"/>
            <a:ext cx="75438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A038-A826-49B4-8325-2C8EAF9DB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za metriku fon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Object 3"/>
          <p:cNvGraphicFramePr/>
          <p:nvPr/>
        </p:nvGraphicFramePr>
        <p:xfrm>
          <a:off x="812880" y="1015920"/>
          <a:ext cx="7597800" cy="38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015920"/>
                    <a:ext cx="75978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9813-6851-4729-AF6F-0FE380AB1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Ciljevi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3059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ovoj lekciji na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či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razumije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čke kontekste i objek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upravljate boja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koristite fonto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koristite metode klas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 crtanje linija pravougaonika, elipsi, lukova i mnogouglov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koristite metode kl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aphics2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2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P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 crtanje linija, pravougaonika, elipsi, lukova i proizvoljnih krivi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postavite svojstv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a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tro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koje crtate pomoću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aphics2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4B24-0607-4189-84BF-CB4C26C74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90" name="Object 6"/>
          <p:cNvGraphicFramePr/>
          <p:nvPr/>
        </p:nvGraphicFramePr>
        <p:xfrm>
          <a:off x="0" y="1440"/>
          <a:ext cx="7056360" cy="47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5636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2" name="Group 11"/>
          <p:cNvGrpSpPr/>
          <p:nvPr/>
        </p:nvGrpSpPr>
        <p:grpSpPr>
          <a:xfrm>
            <a:off x="4267080" y="2666880"/>
            <a:ext cx="3886200" cy="533520"/>
            <a:chOff x="4267080" y="2666880"/>
            <a:chExt cx="3886200" cy="533520"/>
          </a:xfrm>
        </p:grpSpPr>
        <p:sp>
          <p:nvSpPr>
            <p:cNvPr id="593" name="Text Box 9"/>
            <p:cNvSpPr/>
            <p:nvPr/>
          </p:nvSpPr>
          <p:spPr>
            <a:xfrm>
              <a:off x="4724280" y="2666880"/>
              <a:ext cx="3429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ontMetr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at za tekući fon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4" name="Line 10"/>
            <p:cNvSpPr/>
            <p:nvPr/>
          </p:nvSpPr>
          <p:spPr>
            <a:xfrm flipH="1">
              <a:off x="4267080" y="289548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95" name="Group 18"/>
          <p:cNvGrpSpPr/>
          <p:nvPr/>
        </p:nvGrpSpPr>
        <p:grpSpPr>
          <a:xfrm>
            <a:off x="4647960" y="3657600"/>
            <a:ext cx="4115160" cy="609480"/>
            <a:chOff x="4647960" y="3657600"/>
            <a:chExt cx="4115160" cy="609480"/>
          </a:xfrm>
        </p:grpSpPr>
        <p:sp>
          <p:nvSpPr>
            <p:cNvPr id="596" name="Text Box 13"/>
            <p:cNvSpPr/>
            <p:nvPr/>
          </p:nvSpPr>
          <p:spPr>
            <a:xfrm>
              <a:off x="6172200" y="3692520"/>
              <a:ext cx="259092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Metrika font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7" name="Line 14"/>
            <p:cNvSpPr/>
            <p:nvPr/>
          </p:nvSpPr>
          <p:spPr>
            <a:xfrm flipH="1" flipV="1">
              <a:off x="4647960" y="3657600"/>
              <a:ext cx="152388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8" name="Line 15"/>
            <p:cNvSpPr/>
            <p:nvPr/>
          </p:nvSpPr>
          <p:spPr>
            <a:xfrm flipH="1">
              <a:off x="4876920" y="3844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9" name="Line 16"/>
            <p:cNvSpPr/>
            <p:nvPr/>
          </p:nvSpPr>
          <p:spPr>
            <a:xfrm flipH="1">
              <a:off x="4647960" y="388620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00" name="Line 17"/>
            <p:cNvSpPr/>
            <p:nvPr/>
          </p:nvSpPr>
          <p:spPr>
            <a:xfrm flipH="1">
              <a:off x="4876920" y="38862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" dur="1" fill="hold"/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DA02-047E-42F9-9407-F5101188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04" name="Object 4"/>
          <p:cNvGraphicFramePr/>
          <p:nvPr/>
        </p:nvGraphicFramePr>
        <p:xfrm>
          <a:off x="0" y="4680"/>
          <a:ext cx="7056360" cy="23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2874-4FB0-41AD-86C8-F2A8AD3A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09" name="Object 6"/>
          <p:cNvGraphicFramePr/>
          <p:nvPr/>
        </p:nvGraphicFramePr>
        <p:xfrm>
          <a:off x="0" y="0"/>
          <a:ext cx="7056360" cy="68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8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1" name="Picture 9" descr="Metrics"/>
          <p:cNvPicPr/>
          <p:nvPr/>
        </p:nvPicPr>
        <p:blipFill>
          <a:blip r:embed="rId3"/>
          <a:stretch/>
        </p:blipFill>
        <p:spPr>
          <a:xfrm>
            <a:off x="1352520" y="4191120"/>
            <a:ext cx="4514760" cy="22129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47A7-8C21-41C6-B6F6-FC0AB2D6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12.5  </a:t>
            </a:r>
            <a:r>
              <a:rPr b="1" lang="hr-HR" sz="3200" spc="-1" strike="noStrike">
                <a:solidFill>
                  <a:srgbClr val="f9a75e"/>
                </a:solidFill>
                <a:latin typeface="Arial"/>
              </a:rPr>
              <a:t>Crtanje linija, pravouganika i elipsi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 klase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za crtanje linija, pravougaonika i elips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llRoundRec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RoundRec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crta pravougaonik sa zaobljenim ivica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ounding rectangle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 – pravougaona oblast u kojoj će se nacrtati elipsa ili pravougaonik sa zaobljenim ivica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3DRec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ll3DRec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crt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D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pravougaonik koji je ili izdignut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ise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) ili potisnut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ere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Ov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llOv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crta elipsu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Aft>
                <a:spcPts val="6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8717-068D-4F26-A5F4-8C5566B42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crtanje linija, pravougaonika i elipsi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rv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Object 5"/>
          <p:cNvGraphicFramePr/>
          <p:nvPr/>
        </p:nvGraphicFramePr>
        <p:xfrm>
          <a:off x="1079640" y="225360"/>
          <a:ext cx="6511680" cy="51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25360"/>
                    <a:ext cx="651168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AF83-36F7-469D-A2FA-C626F02FC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crtanje linija, pravougaonika i elipsi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Drug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Object 5"/>
          <p:cNvGraphicFramePr/>
          <p:nvPr/>
        </p:nvGraphicFramePr>
        <p:xfrm>
          <a:off x="1436760" y="304920"/>
          <a:ext cx="585144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304920"/>
                    <a:ext cx="585144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33FF-7728-4449-BC2A-B65F1BB5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26" name="Object 6"/>
          <p:cNvGraphicFramePr/>
          <p:nvPr/>
        </p:nvGraphicFramePr>
        <p:xfrm>
          <a:off x="0" y="4680"/>
          <a:ext cx="705636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8" name="Group 11"/>
          <p:cNvGrpSpPr/>
          <p:nvPr/>
        </p:nvGrpSpPr>
        <p:grpSpPr>
          <a:xfrm>
            <a:off x="3276720" y="3048120"/>
            <a:ext cx="2666880" cy="533160"/>
            <a:chOff x="3276720" y="3048120"/>
            <a:chExt cx="2666880" cy="533160"/>
          </a:xfrm>
        </p:grpSpPr>
        <p:sp>
          <p:nvSpPr>
            <p:cNvPr id="629" name="Text Box 9"/>
            <p:cNvSpPr/>
            <p:nvPr/>
          </p:nvSpPr>
          <p:spPr>
            <a:xfrm>
              <a:off x="3733920" y="3048120"/>
              <a:ext cx="220968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rava linij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30" name="Line 10"/>
            <p:cNvSpPr/>
            <p:nvPr/>
          </p:nvSpPr>
          <p:spPr>
            <a:xfrm flipH="1">
              <a:off x="3276720" y="3276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31" name="Group 15"/>
          <p:cNvGrpSpPr/>
          <p:nvPr/>
        </p:nvGrpSpPr>
        <p:grpSpPr>
          <a:xfrm>
            <a:off x="3200400" y="3733920"/>
            <a:ext cx="2971800" cy="533160"/>
            <a:chOff x="3200400" y="3733920"/>
            <a:chExt cx="2971800" cy="533160"/>
          </a:xfrm>
        </p:grpSpPr>
        <p:sp>
          <p:nvSpPr>
            <p:cNvPr id="632" name="Text Box 13"/>
            <p:cNvSpPr/>
            <p:nvPr/>
          </p:nvSpPr>
          <p:spPr>
            <a:xfrm>
              <a:off x="3657600" y="3733920"/>
              <a:ext cx="25146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ravougao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33" name="Line 14"/>
            <p:cNvSpPr/>
            <p:nvPr/>
          </p:nvSpPr>
          <p:spPr>
            <a:xfrm flipH="1">
              <a:off x="3200400" y="39625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34" name="Group 19"/>
          <p:cNvGrpSpPr/>
          <p:nvPr/>
        </p:nvGrpSpPr>
        <p:grpSpPr>
          <a:xfrm>
            <a:off x="3200400" y="4571640"/>
            <a:ext cx="3048120" cy="581040"/>
            <a:chOff x="3200400" y="4571640"/>
            <a:chExt cx="3048120" cy="581040"/>
          </a:xfrm>
        </p:grpSpPr>
        <p:sp>
          <p:nvSpPr>
            <p:cNvPr id="635" name="Text Box 17"/>
            <p:cNvSpPr/>
            <p:nvPr/>
          </p:nvSpPr>
          <p:spPr>
            <a:xfrm>
              <a:off x="3733920" y="4572000"/>
              <a:ext cx="251460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ravougaonik popunjen bojom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36" name="Line 18"/>
            <p:cNvSpPr/>
            <p:nvPr/>
          </p:nvSpPr>
          <p:spPr>
            <a:xfrm flipH="1" flipV="1">
              <a:off x="3200400" y="457164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C359-C445-41ED-8FBE-8E8956B57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40" name="Object 4"/>
          <p:cNvGraphicFramePr/>
          <p:nvPr/>
        </p:nvGraphicFramePr>
        <p:xfrm>
          <a:off x="0" y="4680"/>
          <a:ext cx="7056360" cy="302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2" name="Group 9"/>
          <p:cNvGrpSpPr/>
          <p:nvPr/>
        </p:nvGrpSpPr>
        <p:grpSpPr>
          <a:xfrm>
            <a:off x="4495680" y="76320"/>
            <a:ext cx="4343400" cy="337320"/>
            <a:chOff x="4495680" y="76320"/>
            <a:chExt cx="4343400" cy="337320"/>
          </a:xfrm>
        </p:grpSpPr>
        <p:sp>
          <p:nvSpPr>
            <p:cNvPr id="643" name="Text Box 7"/>
            <p:cNvSpPr/>
            <p:nvPr/>
          </p:nvSpPr>
          <p:spPr>
            <a:xfrm>
              <a:off x="4952880" y="76320"/>
              <a:ext cx="38862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bojeni zaobljeni pravougao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 flipH="1">
              <a:off x="4495680" y="304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45" name="Group 13"/>
          <p:cNvGrpSpPr/>
          <p:nvPr/>
        </p:nvGrpSpPr>
        <p:grpSpPr>
          <a:xfrm>
            <a:off x="4419720" y="533520"/>
            <a:ext cx="4419360" cy="337320"/>
            <a:chOff x="4419720" y="533520"/>
            <a:chExt cx="4419360" cy="337320"/>
          </a:xfrm>
        </p:grpSpPr>
        <p:sp>
          <p:nvSpPr>
            <p:cNvPr id="646" name="Text Box 11"/>
            <p:cNvSpPr/>
            <p:nvPr/>
          </p:nvSpPr>
          <p:spPr>
            <a:xfrm>
              <a:off x="4800600" y="533520"/>
              <a:ext cx="403848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obljeni pravougao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47" name="Line 12"/>
            <p:cNvSpPr/>
            <p:nvPr/>
          </p:nvSpPr>
          <p:spPr>
            <a:xfrm flipH="1" flipV="1">
              <a:off x="4419720" y="6094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48" name="Group 17"/>
          <p:cNvGrpSpPr/>
          <p:nvPr/>
        </p:nvGrpSpPr>
        <p:grpSpPr>
          <a:xfrm>
            <a:off x="3962520" y="838080"/>
            <a:ext cx="4190760" cy="381240"/>
            <a:chOff x="3962520" y="838080"/>
            <a:chExt cx="4190760" cy="381240"/>
          </a:xfrm>
        </p:grpSpPr>
        <p:sp>
          <p:nvSpPr>
            <p:cNvPr id="649" name="Text Box 15"/>
            <p:cNvSpPr/>
            <p:nvPr/>
          </p:nvSpPr>
          <p:spPr>
            <a:xfrm>
              <a:off x="4724280" y="838080"/>
              <a:ext cx="3429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3D pravouga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0" name="Line 16"/>
            <p:cNvSpPr/>
            <p:nvPr/>
          </p:nvSpPr>
          <p:spPr>
            <a:xfrm flipH="1">
              <a:off x="3962520" y="1066680"/>
              <a:ext cx="7617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51" name="Group 21"/>
          <p:cNvGrpSpPr/>
          <p:nvPr/>
        </p:nvGrpSpPr>
        <p:grpSpPr>
          <a:xfrm>
            <a:off x="4190760" y="1219320"/>
            <a:ext cx="3962520" cy="337320"/>
            <a:chOff x="4190760" y="1219320"/>
            <a:chExt cx="3962520" cy="337320"/>
          </a:xfrm>
        </p:grpSpPr>
        <p:sp>
          <p:nvSpPr>
            <p:cNvPr id="652" name="Text Box 19"/>
            <p:cNvSpPr/>
            <p:nvPr/>
          </p:nvSpPr>
          <p:spPr>
            <a:xfrm>
              <a:off x="4724280" y="1219320"/>
              <a:ext cx="3429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bojeni 3D pravougao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3" name="Line 20"/>
            <p:cNvSpPr/>
            <p:nvPr/>
          </p:nvSpPr>
          <p:spPr>
            <a:xfrm flipH="1">
              <a:off x="4190760" y="1447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54" name="Group 25"/>
          <p:cNvGrpSpPr/>
          <p:nvPr/>
        </p:nvGrpSpPr>
        <p:grpSpPr>
          <a:xfrm>
            <a:off x="3428640" y="1676520"/>
            <a:ext cx="2819880" cy="380880"/>
            <a:chOff x="3428640" y="1676520"/>
            <a:chExt cx="2819880" cy="380880"/>
          </a:xfrm>
        </p:grpSpPr>
        <p:sp>
          <p:nvSpPr>
            <p:cNvPr id="655" name="Text Box 23"/>
            <p:cNvSpPr/>
            <p:nvPr/>
          </p:nvSpPr>
          <p:spPr>
            <a:xfrm>
              <a:off x="4191120" y="1676520"/>
              <a:ext cx="20574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Elips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6" name="Line 24"/>
            <p:cNvSpPr/>
            <p:nvPr/>
          </p:nvSpPr>
          <p:spPr>
            <a:xfrm flipH="1">
              <a:off x="3428640" y="190512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57" name="Group 29"/>
          <p:cNvGrpSpPr/>
          <p:nvPr/>
        </p:nvGrpSpPr>
        <p:grpSpPr>
          <a:xfrm>
            <a:off x="3428640" y="2285640"/>
            <a:ext cx="2819880" cy="337680"/>
            <a:chOff x="3428640" y="2285640"/>
            <a:chExt cx="2819880" cy="337680"/>
          </a:xfrm>
        </p:grpSpPr>
        <p:sp>
          <p:nvSpPr>
            <p:cNvPr id="658" name="Text Box 27"/>
            <p:cNvSpPr/>
            <p:nvPr/>
          </p:nvSpPr>
          <p:spPr>
            <a:xfrm>
              <a:off x="4191120" y="2286000"/>
              <a:ext cx="20574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bojena elips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9" name="Line 28"/>
            <p:cNvSpPr/>
            <p:nvPr/>
          </p:nvSpPr>
          <p:spPr>
            <a:xfrm flipH="1" flipV="1">
              <a:off x="3428640" y="2285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31F0-9708-4C20-AE7E-32AF4B3CF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63" name="Object 6"/>
          <p:cNvGraphicFramePr/>
          <p:nvPr/>
        </p:nvGraphicFramePr>
        <p:xfrm>
          <a:off x="0" y="0"/>
          <a:ext cx="7056360" cy="346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EED-E158-4D74-B7B3-C44AB6FA2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68" name="Object 4"/>
          <p:cNvGraphicFramePr/>
          <p:nvPr/>
        </p:nvGraphicFramePr>
        <p:xfrm>
          <a:off x="0" y="0"/>
          <a:ext cx="705636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0" name="Picture 81" descr="LinesRectsOvals"/>
          <p:cNvPicPr/>
          <p:nvPr/>
        </p:nvPicPr>
        <p:blipFill>
          <a:blip r:embed="rId3"/>
          <a:stretch/>
        </p:blipFill>
        <p:spPr>
          <a:xfrm>
            <a:off x="1523880" y="2563920"/>
            <a:ext cx="4114800" cy="2160360"/>
          </a:xfrm>
          <a:prstGeom prst="rect">
            <a:avLst/>
          </a:prstGeom>
          <a:ln w="0">
            <a:noFill/>
          </a:ln>
        </p:spPr>
      </p:pic>
      <p:sp>
        <p:nvSpPr>
          <p:cNvPr id="671" name="Line 84"/>
          <p:cNvSpPr/>
          <p:nvPr/>
        </p:nvSpPr>
        <p:spPr>
          <a:xfrm flipH="1">
            <a:off x="4343400" y="243828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2" name="Text Box 85"/>
          <p:cNvSpPr/>
          <p:nvPr/>
        </p:nvSpPr>
        <p:spPr>
          <a:xfrm>
            <a:off x="5715000" y="22096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llRound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3" name="Line 87"/>
          <p:cNvSpPr/>
          <p:nvPr/>
        </p:nvSpPr>
        <p:spPr>
          <a:xfrm flipH="1">
            <a:off x="5410080" y="2819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4" name="Text Box 88"/>
          <p:cNvSpPr/>
          <p:nvPr/>
        </p:nvSpPr>
        <p:spPr>
          <a:xfrm>
            <a:off x="5791320" y="2590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Round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5" name="Line 89"/>
          <p:cNvSpPr/>
          <p:nvPr/>
        </p:nvSpPr>
        <p:spPr>
          <a:xfrm flipH="1">
            <a:off x="4343040" y="34290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6" name="Text Box 90"/>
          <p:cNvSpPr/>
          <p:nvPr/>
        </p:nvSpPr>
        <p:spPr>
          <a:xfrm>
            <a:off x="5791320" y="3200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Oval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7" name="Line 91"/>
          <p:cNvSpPr/>
          <p:nvPr/>
        </p:nvSpPr>
        <p:spPr>
          <a:xfrm flipH="1">
            <a:off x="5409720" y="38862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8" name="Text Box 92"/>
          <p:cNvSpPr/>
          <p:nvPr/>
        </p:nvSpPr>
        <p:spPr>
          <a:xfrm>
            <a:off x="5791320" y="36576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llOval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9" name="Line 93"/>
          <p:cNvSpPr/>
          <p:nvPr/>
        </p:nvSpPr>
        <p:spPr>
          <a:xfrm>
            <a:off x="1219320" y="2819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0" name="Text Box 94"/>
          <p:cNvSpPr/>
          <p:nvPr/>
        </p:nvSpPr>
        <p:spPr>
          <a:xfrm>
            <a:off x="488880" y="2620800"/>
            <a:ext cx="95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Line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1" name="Line 95"/>
          <p:cNvSpPr/>
          <p:nvPr/>
        </p:nvSpPr>
        <p:spPr>
          <a:xfrm>
            <a:off x="1219320" y="3276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2" name="Text Box 96"/>
          <p:cNvSpPr/>
          <p:nvPr/>
        </p:nvSpPr>
        <p:spPr>
          <a:xfrm>
            <a:off x="457200" y="30780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3" name="Line 97"/>
          <p:cNvSpPr/>
          <p:nvPr/>
        </p:nvSpPr>
        <p:spPr>
          <a:xfrm>
            <a:off x="12952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4" name="Text Box 98"/>
          <p:cNvSpPr/>
          <p:nvPr/>
        </p:nvSpPr>
        <p:spPr>
          <a:xfrm>
            <a:off x="380880" y="35053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ll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5" name="Line 99"/>
          <p:cNvSpPr/>
          <p:nvPr/>
        </p:nvSpPr>
        <p:spPr>
          <a:xfrm>
            <a:off x="11430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6" name="Text Box 100"/>
          <p:cNvSpPr/>
          <p:nvPr/>
        </p:nvSpPr>
        <p:spPr>
          <a:xfrm>
            <a:off x="-147240" y="38908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3D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7" name="Line 101"/>
          <p:cNvSpPr/>
          <p:nvPr/>
        </p:nvSpPr>
        <p:spPr>
          <a:xfrm>
            <a:off x="114300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8" name="Text Box 102"/>
          <p:cNvSpPr/>
          <p:nvPr/>
        </p:nvSpPr>
        <p:spPr>
          <a:xfrm>
            <a:off x="7632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ll3D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62F9-BB03-4B0D-ACDB-178D0F360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09120" y="466560"/>
            <a:ext cx="6629400" cy="356688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 fontScale="99000"/>
          </a:bodyPr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1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v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  <a:ea typeface="Goudy Sans Medium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2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čki konteksti i objek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3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pravljanje bojama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4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potreba fontova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5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tanje linija, pravougaonika i elipsi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6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tanje lukov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7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tanje mnogouglova i izlomljenih linij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8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va 2D AP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1B8-C804-4391-8125-30352F736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Širina i visina luka (arc width and arc height) za zaobljene pravougaonik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AAEMYSN0"/>
          <p:cNvPicPr/>
          <p:nvPr/>
        </p:nvPicPr>
        <p:blipFill>
          <a:blip r:embed="rId1"/>
          <a:stretch/>
        </p:blipFill>
        <p:spPr>
          <a:xfrm>
            <a:off x="762120" y="1895400"/>
            <a:ext cx="7467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96F6-9F37-4CCC-981F-6E37FEC8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ipsa ograničena pravougaonikom (bounded rectangl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3" descr="AAEMYSO0"/>
          <p:cNvPicPr/>
          <p:nvPr/>
        </p:nvPicPr>
        <p:blipFill>
          <a:blip r:embed="rId1"/>
          <a:stretch/>
        </p:blipFill>
        <p:spPr>
          <a:xfrm>
            <a:off x="609480" y="2212920"/>
            <a:ext cx="79250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18E2-8C72-4C37-AF68-EE4C9B299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6  </a:t>
            </a:r>
            <a:r>
              <a:rPr b="1" lang="hr-HR" sz="3600" spc="-1" strike="noStrike">
                <a:solidFill>
                  <a:srgbClr val="f9a75e"/>
                </a:solidFill>
                <a:latin typeface="Arial"/>
              </a:rPr>
              <a:t>Crtanje lukova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Luk se crta kao dio elip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Luk počinje od početnog ugla (engl. start angle) za onoliko stepeni koliki je luk ugla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c angle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Pozitivni stepeni suprotno kretanju kazaljke sata (engl.  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unterclockwise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Negativan stepen u smjeru kretanja kazalje sat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drawAr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fillArc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luže za crtanje luk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9AF-BF00-48EB-A11E-6BFBD55B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iv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i i negativni ugl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3" descr="AAEMYSP0"/>
          <p:cNvPicPr/>
          <p:nvPr/>
        </p:nvPicPr>
        <p:blipFill>
          <a:blip r:embed="rId1"/>
          <a:stretch/>
        </p:blipFill>
        <p:spPr>
          <a:xfrm>
            <a:off x="838080" y="2286000"/>
            <a:ext cx="73915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3D9F-8A6D-43E3-B55B-93A0432A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crtanje luk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Object 5"/>
          <p:cNvGraphicFramePr/>
          <p:nvPr/>
        </p:nvGraphicFramePr>
        <p:xfrm>
          <a:off x="698400" y="2438280"/>
          <a:ext cx="7767720" cy="26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438280"/>
                    <a:ext cx="77677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22F-4EFB-4388-BBCE-3ECFCD24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08" name="Object 6"/>
          <p:cNvGraphicFramePr/>
          <p:nvPr/>
        </p:nvGraphicFramePr>
        <p:xfrm>
          <a:off x="0" y="0"/>
          <a:ext cx="705636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Line 15"/>
          <p:cNvSpPr/>
          <p:nvPr/>
        </p:nvSpPr>
        <p:spPr>
          <a:xfrm flipH="1">
            <a:off x="1828800" y="213372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1752480" y="1523880"/>
            <a:ext cx="3886200" cy="58068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rdinat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jevog gornjeg tjemena pravougaonika koji okružuje luk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2" name="Line 16"/>
          <p:cNvSpPr/>
          <p:nvPr/>
        </p:nvSpPr>
        <p:spPr>
          <a:xfrm flipH="1">
            <a:off x="2209680" y="259092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3" name="Line 19"/>
          <p:cNvSpPr/>
          <p:nvPr/>
        </p:nvSpPr>
        <p:spPr>
          <a:xfrm flipH="1">
            <a:off x="2514600" y="27432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4" name="Line 21"/>
          <p:cNvSpPr/>
          <p:nvPr/>
        </p:nvSpPr>
        <p:spPr>
          <a:xfrm flipH="1">
            <a:off x="2819160" y="27432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2666880" y="2228760"/>
            <a:ext cx="335304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Širina i visna pravougaonika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6" name="Line 25"/>
          <p:cNvSpPr/>
          <p:nvPr/>
        </p:nvSpPr>
        <p:spPr>
          <a:xfrm flipH="1">
            <a:off x="3124080" y="3352680"/>
            <a:ext cx="106704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4038480" y="2971800"/>
            <a:ext cx="152424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očetni ugao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8" name="Line 30"/>
          <p:cNvSpPr/>
          <p:nvPr/>
        </p:nvSpPr>
        <p:spPr>
          <a:xfrm flipH="1">
            <a:off x="3505320" y="32767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9" name="Text Box 31"/>
          <p:cNvSpPr/>
          <p:nvPr/>
        </p:nvSpPr>
        <p:spPr>
          <a:xfrm>
            <a:off x="5715000" y="3048120"/>
            <a:ext cx="152388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Ugao luka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720" name="Group 36"/>
          <p:cNvGrpSpPr/>
          <p:nvPr/>
        </p:nvGrpSpPr>
        <p:grpSpPr>
          <a:xfrm>
            <a:off x="3886200" y="3809880"/>
            <a:ext cx="3352680" cy="1295640"/>
            <a:chOff x="3886200" y="3809880"/>
            <a:chExt cx="3352680" cy="1295640"/>
          </a:xfrm>
        </p:grpSpPr>
        <p:sp>
          <p:nvSpPr>
            <p:cNvPr id="721" name="Text Box 11"/>
            <p:cNvSpPr/>
            <p:nvPr/>
          </p:nvSpPr>
          <p:spPr>
            <a:xfrm>
              <a:off x="5181480" y="4191120"/>
              <a:ext cx="20574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lukov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22" name="Line 12"/>
            <p:cNvSpPr/>
            <p:nvPr/>
          </p:nvSpPr>
          <p:spPr>
            <a:xfrm flipH="1">
              <a:off x="3962520" y="4419720"/>
              <a:ext cx="1218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23" name="Line 35"/>
            <p:cNvSpPr/>
            <p:nvPr/>
          </p:nvSpPr>
          <p:spPr>
            <a:xfrm flipH="1" flipV="1">
              <a:off x="3886200" y="3809880"/>
              <a:ext cx="1295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2" dur="1" fill="hold"/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9CA9-2154-45F3-BE70-FB2770A61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27" name="Object 4"/>
          <p:cNvGraphicFramePr/>
          <p:nvPr/>
        </p:nvGraphicFramePr>
        <p:xfrm>
          <a:off x="0" y="4680"/>
          <a:ext cx="7056360" cy="36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9" name="Group 14"/>
          <p:cNvGrpSpPr/>
          <p:nvPr/>
        </p:nvGrpSpPr>
        <p:grpSpPr>
          <a:xfrm>
            <a:off x="3962160" y="1599840"/>
            <a:ext cx="3657960" cy="1371960"/>
            <a:chOff x="3962160" y="1599840"/>
            <a:chExt cx="3657960" cy="1371960"/>
          </a:xfrm>
        </p:grpSpPr>
        <p:sp>
          <p:nvSpPr>
            <p:cNvPr id="730" name="Text Box 7"/>
            <p:cNvSpPr/>
            <p:nvPr/>
          </p:nvSpPr>
          <p:spPr>
            <a:xfrm>
              <a:off x="5562720" y="2092320"/>
              <a:ext cx="20574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isječak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1" name="Line 8"/>
            <p:cNvSpPr/>
            <p:nvPr/>
          </p:nvSpPr>
          <p:spPr>
            <a:xfrm flipH="1">
              <a:off x="411480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 flipH="1" flipV="1">
              <a:off x="3962160" y="159984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3" name="Line 13"/>
            <p:cNvSpPr/>
            <p:nvPr/>
          </p:nvSpPr>
          <p:spPr>
            <a:xfrm flipH="1">
              <a:off x="4191120" y="2286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34" name="Group 20"/>
          <p:cNvGrpSpPr/>
          <p:nvPr/>
        </p:nvGrpSpPr>
        <p:grpSpPr>
          <a:xfrm>
            <a:off x="3657240" y="1066320"/>
            <a:ext cx="4953240" cy="3567600"/>
            <a:chOff x="3657240" y="1066320"/>
            <a:chExt cx="4953240" cy="3567600"/>
          </a:xfrm>
        </p:grpSpPr>
        <p:sp>
          <p:nvSpPr>
            <p:cNvPr id="735" name="Text Box 16"/>
            <p:cNvSpPr/>
            <p:nvPr/>
          </p:nvSpPr>
          <p:spPr>
            <a:xfrm>
              <a:off x="5715000" y="3809880"/>
              <a:ext cx="2895480" cy="82404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gativ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rijednosti znače kretanje u smjeru kazaljke sat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6" name="Line 17"/>
            <p:cNvSpPr/>
            <p:nvPr/>
          </p:nvSpPr>
          <p:spPr>
            <a:xfrm flipH="1" flipV="1">
              <a:off x="3733560" y="2971440"/>
              <a:ext cx="1981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7" name="Line 18"/>
            <p:cNvSpPr/>
            <p:nvPr/>
          </p:nvSpPr>
          <p:spPr>
            <a:xfrm flipH="1" flipV="1">
              <a:off x="3657240" y="1066320"/>
              <a:ext cx="20574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8" name="Line 19"/>
            <p:cNvSpPr/>
            <p:nvPr/>
          </p:nvSpPr>
          <p:spPr>
            <a:xfrm flipH="1" flipV="1">
              <a:off x="3886200" y="2361600"/>
              <a:ext cx="182880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6" dur="1" fill="hold"/>
                                  <p:tgtEl>
                                    <p:spTgt spid="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318E-4F52-4F00-8E67-DBD93CF1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42" name="Object 6"/>
          <p:cNvGraphicFramePr/>
          <p:nvPr/>
        </p:nvGraphicFramePr>
        <p:xfrm>
          <a:off x="0" y="0"/>
          <a:ext cx="7039080" cy="30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3908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9CD8-9491-4F6F-BAA3-134B5CBB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47" name="Object 4"/>
          <p:cNvGraphicFramePr/>
          <p:nvPr/>
        </p:nvGraphicFramePr>
        <p:xfrm>
          <a:off x="0" y="0"/>
          <a:ext cx="708516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8516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9" name="Picture 5" descr="DrawArcs"/>
          <p:cNvPicPr/>
          <p:nvPr/>
        </p:nvPicPr>
        <p:blipFill>
          <a:blip r:embed="rId3"/>
          <a:stretch/>
        </p:blipFill>
        <p:spPr>
          <a:xfrm>
            <a:off x="990720" y="1515960"/>
            <a:ext cx="4800600" cy="336096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BAF0-04B8-4315-BB6E-0D0093BD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12.7  </a:t>
            </a:r>
            <a:r>
              <a:rPr b="1" lang="hr-HR" sz="3200" spc="-1" strike="noStrike">
                <a:solidFill>
                  <a:srgbClr val="f9a75e"/>
                </a:solidFill>
                <a:latin typeface="Arial"/>
              </a:rPr>
              <a:t>Crtanje mnogouglova i izlomljenih linija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nogouglovi (poligoni, engl. 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ygon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to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k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Polyg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llPolygon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Mnogouglovi mogu biti predstavljeni primjenom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olyg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lasa sadrži metod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addPo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oja dodaje tjeme mnogoug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lomljene linije (engl. 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yline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Niz tačaka povezanih duži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ra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fičk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Polyli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za crtanje izlomljene linij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842-CF93-4629-8839-8AE7AB71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1  Introduction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ma podršku za grafiku – omogućava vizuelno poboljšanje aplikacij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ma mnogo sofisticiranih svosjtava za crtanje . Kao di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2D API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ontMetric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olyg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BasicStrok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radient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Texture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ava 2D shape class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0">
              <a:lnSpc>
                <a:spcPct val="8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A8B3-0A08-404C-8D5E-EFC6E8072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54100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mnogouglove i izlomljene linij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rv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Object 5"/>
          <p:cNvGraphicFramePr/>
          <p:nvPr/>
        </p:nvGraphicFramePr>
        <p:xfrm>
          <a:off x="1146240" y="801720"/>
          <a:ext cx="6681600" cy="410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801720"/>
                    <a:ext cx="66816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6359-D6BB-4DC0-8A51-18896CE6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mnogouglove i izlomljene linij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rv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Object 5"/>
          <p:cNvGraphicFramePr/>
          <p:nvPr/>
        </p:nvGraphicFramePr>
        <p:xfrm>
          <a:off x="936720" y="1919160"/>
          <a:ext cx="6592680" cy="27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1919160"/>
                    <a:ext cx="6592680" cy="27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C752-704C-477B-A282-C0AE87B55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64" name="Object 6"/>
          <p:cNvGraphicFramePr/>
          <p:nvPr/>
        </p:nvGraphicFramePr>
        <p:xfrm>
          <a:off x="0" y="6480"/>
          <a:ext cx="705636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5636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6" name="Group 13"/>
          <p:cNvGrpSpPr/>
          <p:nvPr/>
        </p:nvGrpSpPr>
        <p:grpSpPr>
          <a:xfrm>
            <a:off x="4495320" y="3048120"/>
            <a:ext cx="4420080" cy="580680"/>
            <a:chOff x="4495320" y="3048120"/>
            <a:chExt cx="4420080" cy="580680"/>
          </a:xfrm>
        </p:grpSpPr>
        <p:sp>
          <p:nvSpPr>
            <p:cNvPr id="767" name="Text Box 9"/>
            <p:cNvSpPr/>
            <p:nvPr/>
          </p:nvSpPr>
          <p:spPr>
            <a:xfrm>
              <a:off x="6095880" y="3048120"/>
              <a:ext cx="281952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olyg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 iz skup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ordina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68" name="Line 10"/>
            <p:cNvSpPr/>
            <p:nvPr/>
          </p:nvSpPr>
          <p:spPr>
            <a:xfrm flipH="1">
              <a:off x="5409720" y="335268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69" name="Line 11"/>
            <p:cNvSpPr/>
            <p:nvPr/>
          </p:nvSpPr>
          <p:spPr>
            <a:xfrm flipH="1" flipV="1">
              <a:off x="4495320" y="3200040"/>
              <a:ext cx="1600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0" name="Line 12"/>
            <p:cNvSpPr/>
            <p:nvPr/>
          </p:nvSpPr>
          <p:spPr>
            <a:xfrm flipH="1">
              <a:off x="4495320" y="3352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71" name="Group 17"/>
          <p:cNvGrpSpPr/>
          <p:nvPr/>
        </p:nvGrpSpPr>
        <p:grpSpPr>
          <a:xfrm>
            <a:off x="3047760" y="3657600"/>
            <a:ext cx="3048120" cy="337320"/>
            <a:chOff x="3047760" y="3657600"/>
            <a:chExt cx="3048120" cy="337320"/>
          </a:xfrm>
        </p:grpSpPr>
        <p:sp>
          <p:nvSpPr>
            <p:cNvPr id="772" name="Text Box 15"/>
            <p:cNvSpPr/>
            <p:nvPr/>
          </p:nvSpPr>
          <p:spPr>
            <a:xfrm>
              <a:off x="3733920" y="3657600"/>
              <a:ext cx="23619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mnogougl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3" name="Line 16"/>
            <p:cNvSpPr/>
            <p:nvPr/>
          </p:nvSpPr>
          <p:spPr>
            <a:xfrm flipH="1">
              <a:off x="3047760" y="38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74" name="Group 26"/>
          <p:cNvGrpSpPr/>
          <p:nvPr/>
        </p:nvGrpSpPr>
        <p:grpSpPr>
          <a:xfrm>
            <a:off x="4190760" y="4648320"/>
            <a:ext cx="3733920" cy="580680"/>
            <a:chOff x="4190760" y="4648320"/>
            <a:chExt cx="3733920" cy="580680"/>
          </a:xfrm>
        </p:grpSpPr>
        <p:sp>
          <p:nvSpPr>
            <p:cNvPr id="775" name="Text Box 24"/>
            <p:cNvSpPr/>
            <p:nvPr/>
          </p:nvSpPr>
          <p:spPr>
            <a:xfrm>
              <a:off x="4876920" y="4648320"/>
              <a:ext cx="304776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izlomljene linije iz skup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ordina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6" name="Line 25"/>
            <p:cNvSpPr/>
            <p:nvPr/>
          </p:nvSpPr>
          <p:spPr>
            <a:xfrm flipH="1">
              <a:off x="4190760" y="495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5" dur="1" fill="hold"/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F978-6F84-41FE-A3E5-174E45D1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80" name="Object 6"/>
          <p:cNvGraphicFramePr/>
          <p:nvPr/>
        </p:nvGraphicFramePr>
        <p:xfrm>
          <a:off x="0" y="4680"/>
          <a:ext cx="7056360" cy="35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2" name="Group 12"/>
          <p:cNvGrpSpPr/>
          <p:nvPr/>
        </p:nvGrpSpPr>
        <p:grpSpPr>
          <a:xfrm>
            <a:off x="4190760" y="476280"/>
            <a:ext cx="4800960" cy="580680"/>
            <a:chOff x="4190760" y="476280"/>
            <a:chExt cx="4800960" cy="580680"/>
          </a:xfrm>
        </p:grpSpPr>
        <p:sp>
          <p:nvSpPr>
            <p:cNvPr id="783" name="Text Box 10"/>
            <p:cNvSpPr/>
            <p:nvPr/>
          </p:nvSpPr>
          <p:spPr>
            <a:xfrm>
              <a:off x="4724280" y="476280"/>
              <a:ext cx="426744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mnogougla iz skup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ordina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 bez kreiranja objekt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olygon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H="1">
              <a:off x="4190760" y="76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85" name="Group 26"/>
          <p:cNvGrpSpPr/>
          <p:nvPr/>
        </p:nvGrpSpPr>
        <p:grpSpPr>
          <a:xfrm>
            <a:off x="3429000" y="1676520"/>
            <a:ext cx="4876560" cy="838080"/>
            <a:chOff x="3429000" y="1676520"/>
            <a:chExt cx="4876560" cy="838080"/>
          </a:xfrm>
        </p:grpSpPr>
        <p:sp>
          <p:nvSpPr>
            <p:cNvPr id="786" name="Text Box 17"/>
            <p:cNvSpPr/>
            <p:nvPr/>
          </p:nvSpPr>
          <p:spPr>
            <a:xfrm>
              <a:off x="5194440" y="1771560"/>
              <a:ext cx="311112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Dodavanje tjemena mnogouglu primjenom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ddPoin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H="1">
              <a:off x="3429000" y="205740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 flipV="1">
              <a:off x="3429000" y="1676520"/>
              <a:ext cx="1765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89" name="Line 20"/>
            <p:cNvSpPr/>
            <p:nvPr/>
          </p:nvSpPr>
          <p:spPr>
            <a:xfrm flipH="1" flipV="1">
              <a:off x="3429000" y="1904760"/>
              <a:ext cx="1765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429000" y="2057400"/>
              <a:ext cx="1765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H="1">
              <a:off x="3429000" y="2057400"/>
              <a:ext cx="1765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9235-F15F-49FB-87E2-9E616BAC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95" name="Object 6"/>
          <p:cNvGraphicFramePr/>
          <p:nvPr/>
        </p:nvGraphicFramePr>
        <p:xfrm>
          <a:off x="0" y="0"/>
          <a:ext cx="7056360" cy="30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BF6-BE04-4613-804D-334DC437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00" name="Object 4"/>
          <p:cNvGraphicFramePr/>
          <p:nvPr/>
        </p:nvGraphicFramePr>
        <p:xfrm>
          <a:off x="0" y="0"/>
          <a:ext cx="70563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2" name="Picture 5" descr="DrawPolygons"/>
          <p:cNvPicPr/>
          <p:nvPr/>
        </p:nvPicPr>
        <p:blipFill>
          <a:blip r:embed="rId3"/>
          <a:stretch/>
        </p:blipFill>
        <p:spPr>
          <a:xfrm>
            <a:off x="1828800" y="152388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803" name="Line 7"/>
          <p:cNvSpPr/>
          <p:nvPr/>
        </p:nvSpPr>
        <p:spPr>
          <a:xfrm flipH="1">
            <a:off x="3962520" y="1905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4" name="Text Box 28"/>
          <p:cNvSpPr/>
          <p:nvPr/>
        </p:nvSpPr>
        <p:spPr>
          <a:xfrm>
            <a:off x="5181480" y="1706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of line 28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5" name="Line 30"/>
          <p:cNvSpPr/>
          <p:nvPr/>
        </p:nvSpPr>
        <p:spPr>
          <a:xfrm flipH="1">
            <a:off x="4571640" y="35812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5257800" y="3382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of line 37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7" name="Line 32"/>
          <p:cNvSpPr/>
          <p:nvPr/>
        </p:nvSpPr>
        <p:spPr>
          <a:xfrm>
            <a:off x="1371600" y="24382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8" name="Line 33"/>
          <p:cNvSpPr/>
          <p:nvPr/>
        </p:nvSpPr>
        <p:spPr>
          <a:xfrm flipV="1">
            <a:off x="1676520" y="32000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9" name="Text Box 34"/>
          <p:cNvSpPr/>
          <p:nvPr/>
        </p:nvSpPr>
        <p:spPr>
          <a:xfrm>
            <a:off x="533520" y="34592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of line 23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457200" y="2209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of line 18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044F-9DFD-44A4-83F8-03599CE8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1141200" y="1828440"/>
            <a:ext cx="70880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je broj tačaka zadatih kao treći argument metoda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drawPolyg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illPolygon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ći od broja elemenata niza koji zadaje mnogougao, biće pokrenut (engl. thrown) izuzetak (engl. exception)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rrayIndexOutOfBoundsExcep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title"/>
          </p:nvPr>
        </p:nvSpPr>
        <p:spPr>
          <a:xfrm>
            <a:off x="912960" y="684360"/>
            <a:ext cx="783432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</a:rPr>
              <a:t>Uobičajena programerska gre</a:t>
            </a:r>
            <a:r>
              <a:rPr b="1" lang="en-US" sz="3200" spc="-1" strike="noStrike">
                <a:solidFill>
                  <a:srgbClr val="5ad9b3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5ad9b3"/>
                </a:solidFill>
                <a:latin typeface="Arial"/>
              </a:rPr>
              <a:t>ka 12.1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91D9-42E4-4781-AE01-A79A95C34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8  Java 2D API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Daje mogućnost dvodimenzionalne grafike za detaljnije i složenije manipulacije grafik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Upotreba za linije, tekst i slik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Realizovane kroz klasu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7D1C-D60E-45FA-BE6E-95F6E077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9a75e"/>
                </a:solidFill>
                <a:latin typeface="Arial"/>
              </a:rPr>
              <a:t>Lin</a:t>
            </a:r>
            <a:r>
              <a:rPr b="1" i="1" lang="hr-HR" sz="3200" spc="-1" strike="noStrike">
                <a:solidFill>
                  <a:srgbClr val="f9a75e"/>
                </a:solidFill>
                <a:latin typeface="Arial"/>
              </a:rPr>
              <a:t>ije, pravougaonici</a:t>
            </a:r>
            <a:r>
              <a:rPr b="1" i="1" lang="en-US" sz="3200" spc="-1" strike="noStrike">
                <a:solidFill>
                  <a:srgbClr val="f9a75e"/>
                </a:solidFill>
                <a:latin typeface="Arial"/>
              </a:rPr>
              <a:t>, </a:t>
            </a:r>
            <a:r>
              <a:rPr b="1" i="1" lang="hr-HR" sz="3200" spc="-1" strike="noStrike">
                <a:solidFill>
                  <a:srgbClr val="f9a75e"/>
                </a:solidFill>
                <a:latin typeface="Arial"/>
              </a:rPr>
              <a:t>zaobljeni pravougaonici, lukovi i elipse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2D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figure zadaju se sa pomoću sljedećih realnih vrijednos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uble-precision floating-point values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ne2D.Dou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ctangle2D.Dou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oundRectangle2D.Dou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rc2D.Dou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Ellipse2D.Dou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Crtanje pomoću objekata kla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t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postavlja boju za objekat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ada se figura crta kao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int obj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može biti predeklarisani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,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li instanca klasa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radient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ystem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exturePai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radient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oristi se za crtanje sa gradijentom, koji može biti cikličan ili acikličan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exture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e koristi za crtanje pomoću reapliciranja sačuvane sli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5978-0128-4296-AC5F-61328AFB8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9a75e"/>
                </a:solidFill>
                <a:latin typeface="Arial"/>
              </a:rPr>
              <a:t>Lin</a:t>
            </a:r>
            <a:r>
              <a:rPr b="1" i="1" lang="hr-HR" sz="3200" spc="-1" strike="noStrike">
                <a:solidFill>
                  <a:srgbClr val="f9a75e"/>
                </a:solidFill>
                <a:latin typeface="Arial"/>
              </a:rPr>
              <a:t>ije, pravougaonici</a:t>
            </a:r>
            <a:r>
              <a:rPr b="1" i="1" lang="en-US" sz="3200" spc="-1" strike="noStrike">
                <a:solidFill>
                  <a:srgbClr val="f9a75e"/>
                </a:solidFill>
                <a:latin typeface="Arial"/>
              </a:rPr>
              <a:t>, </a:t>
            </a:r>
            <a:r>
              <a:rPr b="1" i="1" lang="hr-HR" sz="3200" spc="-1" strike="noStrike">
                <a:solidFill>
                  <a:srgbClr val="f9a75e"/>
                </a:solidFill>
                <a:latin typeface="Arial"/>
              </a:rPr>
              <a:t>zaobljeni pravougaonici, lukovi i elipse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ill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e koristi za crtanje obojenog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ob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j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terf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ejs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ha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ra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e koristi za crtanj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odešavanje oblika linije ili granice (engl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roke of a line or border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etod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tStrok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argument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mora implementirati interfejs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rok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icStrok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zadaje širinu linije, krajeve, način povezivanj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2D.Double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ns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2D.PIE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luk se zatvara sa dvije linije koje spajaju centar sa krajnjim tačkama lu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2D.CHORD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crta se linija od početne do krajnje tač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2D.OPEN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luk nije zatvor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1DE-C6CC-4CFA-8BF2-82A2B319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57909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lase i interfejsi koji se koriste u ovoj lekcij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AAEMYSJ0"/>
          <p:cNvPicPr/>
          <p:nvPr/>
        </p:nvPicPr>
        <p:blipFill>
          <a:blip r:embed="rId1"/>
          <a:stretch/>
        </p:blipFill>
        <p:spPr>
          <a:xfrm>
            <a:off x="2286000" y="228600"/>
            <a:ext cx="3984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02C6-C701-47BF-A363-71324A316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26" name="Object 6"/>
          <p:cNvGraphicFramePr/>
          <p:nvPr/>
        </p:nvGraphicFramePr>
        <p:xfrm>
          <a:off x="0" y="4680"/>
          <a:ext cx="7056360" cy="56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8" name="Group 16"/>
          <p:cNvGrpSpPr/>
          <p:nvPr/>
        </p:nvGrpSpPr>
        <p:grpSpPr>
          <a:xfrm>
            <a:off x="2666880" y="1752480"/>
            <a:ext cx="5181840" cy="1067040"/>
            <a:chOff x="2666880" y="1752480"/>
            <a:chExt cx="5181840" cy="1067040"/>
          </a:xfrm>
        </p:grpSpPr>
        <p:sp>
          <p:nvSpPr>
            <p:cNvPr id="829" name="Text Box 9"/>
            <p:cNvSpPr/>
            <p:nvPr/>
          </p:nvSpPr>
          <p:spPr>
            <a:xfrm>
              <a:off x="5029200" y="2168640"/>
              <a:ext cx="281952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 2D API shape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0" name="Line 10"/>
            <p:cNvSpPr/>
            <p:nvPr/>
          </p:nvSpPr>
          <p:spPr>
            <a:xfrm flipH="1" flipV="1">
              <a:off x="3200400" y="2209680"/>
              <a:ext cx="1828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1" name="Line 11"/>
            <p:cNvSpPr/>
            <p:nvPr/>
          </p:nvSpPr>
          <p:spPr>
            <a:xfrm flipH="1" flipV="1">
              <a:off x="2743200" y="17524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2" name="Line 12"/>
            <p:cNvSpPr/>
            <p:nvPr/>
          </p:nvSpPr>
          <p:spPr>
            <a:xfrm flipH="1" flipV="1">
              <a:off x="2971440" y="1980720"/>
              <a:ext cx="205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3" name="Line 13"/>
            <p:cNvSpPr/>
            <p:nvPr/>
          </p:nvSpPr>
          <p:spPr>
            <a:xfrm flipH="1">
              <a:off x="3581280" y="2362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4" name="Line 14"/>
            <p:cNvSpPr/>
            <p:nvPr/>
          </p:nvSpPr>
          <p:spPr>
            <a:xfrm flipH="1">
              <a:off x="2666880" y="2362320"/>
              <a:ext cx="2362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5" name="Line 15"/>
            <p:cNvSpPr/>
            <p:nvPr/>
          </p:nvSpPr>
          <p:spPr>
            <a:xfrm flipH="1">
              <a:off x="2743200" y="236232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36" name="Group 19"/>
          <p:cNvGrpSpPr/>
          <p:nvPr/>
        </p:nvGrpSpPr>
        <p:grpSpPr>
          <a:xfrm>
            <a:off x="3429000" y="4114800"/>
            <a:ext cx="5333760" cy="914400"/>
            <a:chOff x="3429000" y="4114800"/>
            <a:chExt cx="5333760" cy="914400"/>
          </a:xfrm>
        </p:grpSpPr>
        <p:sp>
          <p:nvSpPr>
            <p:cNvPr id="837" name="Text Box 17"/>
            <p:cNvSpPr/>
            <p:nvPr/>
          </p:nvSpPr>
          <p:spPr>
            <a:xfrm>
              <a:off x="4875480" y="4114800"/>
              <a:ext cx="388728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 reference na G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raphics2D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8" name="Line 18"/>
            <p:cNvSpPr/>
            <p:nvPr/>
          </p:nvSpPr>
          <p:spPr>
            <a:xfrm flipH="1">
              <a:off x="3429000" y="4343400"/>
              <a:ext cx="1446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4C18-C685-453C-A256-CD404D2B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0" y="1440"/>
          <a:ext cx="7056360" cy="565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56360" cy="56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9"/>
          <p:cNvGrpSpPr/>
          <p:nvPr/>
        </p:nvGrpSpPr>
        <p:grpSpPr>
          <a:xfrm>
            <a:off x="3733920" y="456840"/>
            <a:ext cx="4190760" cy="1266840"/>
            <a:chOff x="3733920" y="456840"/>
            <a:chExt cx="4190760" cy="1266840"/>
          </a:xfrm>
        </p:grpSpPr>
        <p:sp>
          <p:nvSpPr>
            <p:cNvPr id="845" name="Line 7"/>
            <p:cNvSpPr/>
            <p:nvPr/>
          </p:nvSpPr>
          <p:spPr>
            <a:xfrm flipH="1" flipV="1">
              <a:off x="3733920" y="45684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46" name="Text Box 8"/>
            <p:cNvSpPr/>
            <p:nvPr/>
          </p:nvSpPr>
          <p:spPr>
            <a:xfrm>
              <a:off x="4419720" y="1143000"/>
              <a:ext cx="350496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sa gradijentom od plavog do žutog. Pomoću klase Graphics2D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47" name="Group 13"/>
          <p:cNvGrpSpPr/>
          <p:nvPr/>
        </p:nvGrpSpPr>
        <p:grpSpPr>
          <a:xfrm>
            <a:off x="5181120" y="568440"/>
            <a:ext cx="3734280" cy="580680"/>
            <a:chOff x="5181120" y="568440"/>
            <a:chExt cx="3734280" cy="580680"/>
          </a:xfrm>
        </p:grpSpPr>
        <p:sp>
          <p:nvSpPr>
            <p:cNvPr id="848" name="Text Box 11"/>
            <p:cNvSpPr/>
            <p:nvPr/>
          </p:nvSpPr>
          <p:spPr>
            <a:xfrm>
              <a:off x="5867280" y="568440"/>
              <a:ext cx="304812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elipse primjenom gradijent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49" name="Line 12"/>
            <p:cNvSpPr/>
            <p:nvPr/>
          </p:nvSpPr>
          <p:spPr>
            <a:xfrm flipH="1">
              <a:off x="5181120" y="762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50" name="Group 17"/>
          <p:cNvGrpSpPr/>
          <p:nvPr/>
        </p:nvGrpSpPr>
        <p:grpSpPr>
          <a:xfrm>
            <a:off x="4343040" y="1447920"/>
            <a:ext cx="3733920" cy="337320"/>
            <a:chOff x="4343040" y="1447920"/>
            <a:chExt cx="3733920" cy="337320"/>
          </a:xfrm>
        </p:grpSpPr>
        <p:sp>
          <p:nvSpPr>
            <p:cNvPr id="851" name="Text Box 15"/>
            <p:cNvSpPr/>
            <p:nvPr/>
          </p:nvSpPr>
          <p:spPr>
            <a:xfrm>
              <a:off x="5029200" y="1447920"/>
              <a:ext cx="30477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Granica širin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pi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sel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52" name="Line 16"/>
            <p:cNvSpPr/>
            <p:nvPr/>
          </p:nvSpPr>
          <p:spPr>
            <a:xfrm flipH="1">
              <a:off x="4343040" y="1641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53" name="Group 21"/>
          <p:cNvGrpSpPr/>
          <p:nvPr/>
        </p:nvGrpSpPr>
        <p:grpSpPr>
          <a:xfrm>
            <a:off x="4191120" y="2590560"/>
            <a:ext cx="4190760" cy="1266840"/>
            <a:chOff x="4191120" y="2590560"/>
            <a:chExt cx="4190760" cy="1266840"/>
          </a:xfrm>
        </p:grpSpPr>
        <p:sp>
          <p:nvSpPr>
            <p:cNvPr id="854" name="Line 22"/>
            <p:cNvSpPr/>
            <p:nvPr/>
          </p:nvSpPr>
          <p:spPr>
            <a:xfrm flipH="1" flipV="1">
              <a:off x="4191120" y="259056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55" name="Text Box 23"/>
            <p:cNvSpPr/>
            <p:nvPr/>
          </p:nvSpPr>
          <p:spPr>
            <a:xfrm>
              <a:off x="4876920" y="3276720"/>
              <a:ext cx="350496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slike za objekat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extu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7" dur="1" fill="hold"/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D1EC-77BC-48CD-823C-D2E2FDC5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0" y="4680"/>
          <a:ext cx="7056360" cy="54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54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0" name="Line 7"/>
          <p:cNvSpPr/>
          <p:nvPr/>
        </p:nvSpPr>
        <p:spPr>
          <a:xfrm flipH="1" flipV="1">
            <a:off x="3733920" y="45684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4572000" y="685800"/>
            <a:ext cx="3505320" cy="58068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Kreiranj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exturePa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kt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iz slik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62" name="Line 10"/>
          <p:cNvSpPr/>
          <p:nvPr/>
        </p:nvSpPr>
        <p:spPr>
          <a:xfrm flipH="1" flipV="1">
            <a:off x="2895120" y="1066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63" name="Text Box 11"/>
          <p:cNvSpPr/>
          <p:nvPr/>
        </p:nvSpPr>
        <p:spPr>
          <a:xfrm>
            <a:off x="3657600" y="1219320"/>
            <a:ext cx="3505320" cy="58068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Crtanje zaobljenog pravougaonika, popunjenog slikom koja se ponavlja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864" name="Group 17"/>
          <p:cNvGrpSpPr/>
          <p:nvPr/>
        </p:nvGrpSpPr>
        <p:grpSpPr>
          <a:xfrm>
            <a:off x="3276360" y="1676520"/>
            <a:ext cx="5715360" cy="900000"/>
            <a:chOff x="3276360" y="1676520"/>
            <a:chExt cx="5715360" cy="900000"/>
          </a:xfrm>
        </p:grpSpPr>
        <p:sp>
          <p:nvSpPr>
            <p:cNvPr id="865" name="Text Box 12"/>
            <p:cNvSpPr/>
            <p:nvPr/>
          </p:nvSpPr>
          <p:spPr>
            <a:xfrm>
              <a:off x="6629400" y="1752480"/>
              <a:ext cx="2362320" cy="82404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luka sa bijelom granicom debljine 6 piksel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6" name="Line 13"/>
            <p:cNvSpPr/>
            <p:nvPr/>
          </p:nvSpPr>
          <p:spPr>
            <a:xfrm flipH="1">
              <a:off x="6019560" y="20574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7" name="Line 14"/>
            <p:cNvSpPr/>
            <p:nvPr/>
          </p:nvSpPr>
          <p:spPr>
            <a:xfrm flipH="1" flipV="1">
              <a:off x="3276360" y="1676520"/>
              <a:ext cx="3352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8" name="Line 16"/>
            <p:cNvSpPr/>
            <p:nvPr/>
          </p:nvSpPr>
          <p:spPr>
            <a:xfrm flipH="1" flipV="1">
              <a:off x="4343400" y="1904760"/>
              <a:ext cx="2286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69" name="Group 21"/>
          <p:cNvGrpSpPr/>
          <p:nvPr/>
        </p:nvGrpSpPr>
        <p:grpSpPr>
          <a:xfrm>
            <a:off x="5181120" y="3006720"/>
            <a:ext cx="2819880" cy="337320"/>
            <a:chOff x="5181120" y="3006720"/>
            <a:chExt cx="2819880" cy="337320"/>
          </a:xfrm>
        </p:grpSpPr>
        <p:sp>
          <p:nvSpPr>
            <p:cNvPr id="870" name="Text Box 19"/>
            <p:cNvSpPr/>
            <p:nvPr/>
          </p:nvSpPr>
          <p:spPr>
            <a:xfrm>
              <a:off x="5867280" y="3006720"/>
              <a:ext cx="213372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una zelena linij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1" name="Line 20"/>
            <p:cNvSpPr/>
            <p:nvPr/>
          </p:nvSpPr>
          <p:spPr>
            <a:xfrm flipH="1">
              <a:off x="51811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72" name="Group 22"/>
          <p:cNvGrpSpPr/>
          <p:nvPr/>
        </p:nvGrpSpPr>
        <p:grpSpPr>
          <a:xfrm>
            <a:off x="4648320" y="4302000"/>
            <a:ext cx="2818800" cy="337320"/>
            <a:chOff x="4648320" y="4302000"/>
            <a:chExt cx="2818800" cy="337320"/>
          </a:xfrm>
        </p:grpSpPr>
        <p:sp>
          <p:nvSpPr>
            <p:cNvPr id="873" name="Text Box 23"/>
            <p:cNvSpPr/>
            <p:nvPr/>
          </p:nvSpPr>
          <p:spPr>
            <a:xfrm>
              <a:off x="5333760" y="4302000"/>
              <a:ext cx="21333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sprekidana linij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4" name="Line 24"/>
            <p:cNvSpPr/>
            <p:nvPr/>
          </p:nvSpPr>
          <p:spPr>
            <a:xfrm flipH="1">
              <a:off x="4648320" y="44956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75" name="Group 25"/>
          <p:cNvGrpSpPr/>
          <p:nvPr/>
        </p:nvGrpSpPr>
        <p:grpSpPr>
          <a:xfrm>
            <a:off x="3505320" y="4800240"/>
            <a:ext cx="4190760" cy="1023480"/>
            <a:chOff x="3505320" y="4800240"/>
            <a:chExt cx="4190760" cy="1023480"/>
          </a:xfrm>
        </p:grpSpPr>
        <p:sp>
          <p:nvSpPr>
            <p:cNvPr id="876" name="Line 26"/>
            <p:cNvSpPr/>
            <p:nvPr/>
          </p:nvSpPr>
          <p:spPr>
            <a:xfrm flipH="1" flipV="1">
              <a:off x="3505320" y="480024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7" name="Text Box 27"/>
            <p:cNvSpPr/>
            <p:nvPr/>
          </p:nvSpPr>
          <p:spPr>
            <a:xfrm>
              <a:off x="4191120" y="5486400"/>
              <a:ext cx="35049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isprekidane žute linij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1" dur="1" fill="hold"/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A4A6-C126-4E0A-8772-20A1D6A1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0" y="0"/>
          <a:ext cx="7075440" cy="72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75440" cy="72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3" name="Picture 5" descr="Shapes"/>
          <p:cNvPicPr/>
          <p:nvPr/>
        </p:nvPicPr>
        <p:blipFill>
          <a:blip r:embed="rId3"/>
          <a:stretch/>
        </p:blipFill>
        <p:spPr>
          <a:xfrm>
            <a:off x="1371600" y="4648320"/>
            <a:ext cx="441972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459D-DABA-4C35-BA75-882D413CD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9a75e"/>
                </a:solidFill>
                <a:latin typeface="Arial"/>
              </a:rPr>
              <a:t>General Paths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al path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– figura kreirana od pravih linija i složenih krivi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GeneralPa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ove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zadaje prvu tačk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ine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crta liniju do sljedeće tačk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ws a line to the next point in the path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losePa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mpletiraošti obli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o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ransl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oristi se za pomjeranje koordinatnog početka za crtanj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o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rotate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oristi se za rotiranje sljedećeg oblika koji se prikazuj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6F2-4730-4FF9-A4F0-6A13FA124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88" name="Object 6"/>
          <p:cNvGraphicFramePr/>
          <p:nvPr/>
        </p:nvGraphicFramePr>
        <p:xfrm>
          <a:off x="0" y="6480"/>
          <a:ext cx="7056360" cy="56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5636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0" name="Group 8"/>
          <p:cNvGrpSpPr/>
          <p:nvPr/>
        </p:nvGrpSpPr>
        <p:grpSpPr>
          <a:xfrm>
            <a:off x="4343040" y="4819680"/>
            <a:ext cx="3733920" cy="337320"/>
            <a:chOff x="4343040" y="4819680"/>
            <a:chExt cx="3733920" cy="337320"/>
          </a:xfrm>
        </p:grpSpPr>
        <p:sp>
          <p:nvSpPr>
            <p:cNvPr id="891" name="Text Box 9"/>
            <p:cNvSpPr/>
            <p:nvPr/>
          </p:nvSpPr>
          <p:spPr>
            <a:xfrm>
              <a:off x="5029200" y="4819680"/>
              <a:ext cx="30477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ostavljanje početne tačk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92" name="Line 10"/>
            <p:cNvSpPr/>
            <p:nvPr/>
          </p:nvSpPr>
          <p:spPr>
            <a:xfrm flipH="1">
              <a:off x="4343040" y="5124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93" name="Group 13"/>
          <p:cNvGrpSpPr/>
          <p:nvPr/>
        </p:nvGrpSpPr>
        <p:grpSpPr>
          <a:xfrm>
            <a:off x="3733560" y="3505320"/>
            <a:ext cx="5181120" cy="914400"/>
            <a:chOff x="3733560" y="3505320"/>
            <a:chExt cx="5181120" cy="914400"/>
          </a:xfrm>
        </p:grpSpPr>
        <p:sp>
          <p:nvSpPr>
            <p:cNvPr id="894" name="Text Box 11"/>
            <p:cNvSpPr/>
            <p:nvPr/>
          </p:nvSpPr>
          <p:spPr>
            <a:xfrm>
              <a:off x="5327640" y="3505320"/>
              <a:ext cx="358704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 objekt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eneralPath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95" name="Line 12"/>
            <p:cNvSpPr/>
            <p:nvPr/>
          </p:nvSpPr>
          <p:spPr>
            <a:xfrm flipH="1">
              <a:off x="3733560" y="3733920"/>
              <a:ext cx="159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5" dur="1" fill="hold"/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CE4D-076A-438E-9523-D2730CF45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99" name="Object 4"/>
          <p:cNvGraphicFramePr/>
          <p:nvPr/>
        </p:nvGraphicFramePr>
        <p:xfrm>
          <a:off x="0" y="3240"/>
          <a:ext cx="7056360" cy="47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056360" cy="47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1" name="Group 9"/>
          <p:cNvGrpSpPr/>
          <p:nvPr/>
        </p:nvGrpSpPr>
        <p:grpSpPr>
          <a:xfrm>
            <a:off x="3657240" y="628200"/>
            <a:ext cx="4191480" cy="1023480"/>
            <a:chOff x="3657240" y="628200"/>
            <a:chExt cx="4191480" cy="1023480"/>
          </a:xfrm>
        </p:grpSpPr>
        <p:sp>
          <p:nvSpPr>
            <p:cNvPr id="902" name="Line 7"/>
            <p:cNvSpPr/>
            <p:nvPr/>
          </p:nvSpPr>
          <p:spPr>
            <a:xfrm flipH="1" flipV="1">
              <a:off x="3657240" y="62820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03" name="Text Box 8"/>
            <p:cNvSpPr/>
            <p:nvPr/>
          </p:nvSpPr>
          <p:spPr>
            <a:xfrm>
              <a:off x="4952880" y="1314360"/>
              <a:ext cx="289584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Dodaje liniju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904" name="Group 13"/>
          <p:cNvGrpSpPr/>
          <p:nvPr/>
        </p:nvGrpSpPr>
        <p:grpSpPr>
          <a:xfrm>
            <a:off x="1905120" y="1066320"/>
            <a:ext cx="4724280" cy="1023480"/>
            <a:chOff x="1905120" y="1066320"/>
            <a:chExt cx="4724280" cy="1023480"/>
          </a:xfrm>
        </p:grpSpPr>
        <p:sp>
          <p:nvSpPr>
            <p:cNvPr id="905" name="Line 11"/>
            <p:cNvSpPr/>
            <p:nvPr/>
          </p:nvSpPr>
          <p:spPr>
            <a:xfrm flipH="1" flipV="1">
              <a:off x="1905120" y="106632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06" name="Text Box 12"/>
            <p:cNvSpPr/>
            <p:nvPr/>
          </p:nvSpPr>
          <p:spPr>
            <a:xfrm>
              <a:off x="3200400" y="1752480"/>
              <a:ext cx="3429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Linija od posljednje do prv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907" name="Group 14"/>
          <p:cNvGrpSpPr/>
          <p:nvPr/>
        </p:nvGrpSpPr>
        <p:grpSpPr>
          <a:xfrm>
            <a:off x="3048120" y="2590920"/>
            <a:ext cx="4190400" cy="1022760"/>
            <a:chOff x="3048120" y="2590920"/>
            <a:chExt cx="4190400" cy="1022760"/>
          </a:xfrm>
        </p:grpSpPr>
        <p:sp>
          <p:nvSpPr>
            <p:cNvPr id="908" name="Line 15"/>
            <p:cNvSpPr/>
            <p:nvPr/>
          </p:nvSpPr>
          <p:spPr>
            <a:xfrm flipH="1" flipV="1">
              <a:off x="3048120" y="2590920"/>
              <a:ext cx="21333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09" name="Text Box 16"/>
            <p:cNvSpPr/>
            <p:nvPr/>
          </p:nvSpPr>
          <p:spPr>
            <a:xfrm>
              <a:off x="4343040" y="3276360"/>
              <a:ext cx="289548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ta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ija za približno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epeni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910" name="Group 17"/>
          <p:cNvGrpSpPr/>
          <p:nvPr/>
        </p:nvGrpSpPr>
        <p:grpSpPr>
          <a:xfrm>
            <a:off x="2514600" y="3962520"/>
            <a:ext cx="4952160" cy="1266120"/>
            <a:chOff x="2514600" y="3962520"/>
            <a:chExt cx="4952160" cy="1266120"/>
          </a:xfrm>
        </p:grpSpPr>
        <p:sp>
          <p:nvSpPr>
            <p:cNvPr id="911" name="Line 18"/>
            <p:cNvSpPr/>
            <p:nvPr/>
          </p:nvSpPr>
          <p:spPr>
            <a:xfrm flipH="1" flipV="1">
              <a:off x="2514600" y="3962520"/>
              <a:ext cx="25214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12" name="Text Box 19"/>
            <p:cNvSpPr/>
            <p:nvPr/>
          </p:nvSpPr>
          <p:spPr>
            <a:xfrm>
              <a:off x="4044960" y="4647960"/>
              <a:ext cx="342180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zvijezda, sa datim uglom, oko koordinatnog početka (vidi sliku)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22FC-F57B-4AF4-8836-5FC6FEB7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914" name="Object 6"/>
          <p:cNvGraphicFramePr/>
          <p:nvPr/>
        </p:nvGraphicFramePr>
        <p:xfrm>
          <a:off x="0" y="0"/>
          <a:ext cx="7056360" cy="32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43E8-98D9-4CB0-BE98-1E671C55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917" name="Object 4"/>
          <p:cNvGraphicFramePr/>
          <p:nvPr/>
        </p:nvGraphicFramePr>
        <p:xfrm>
          <a:off x="0" y="0"/>
          <a:ext cx="705636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9" name="Picture 5" descr="Shapes2"/>
          <p:cNvPicPr/>
          <p:nvPr/>
        </p:nvPicPr>
        <p:blipFill>
          <a:blip r:embed="rId3"/>
          <a:stretch/>
        </p:blipFill>
        <p:spPr>
          <a:xfrm>
            <a:off x="1905120" y="17524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F294-416E-4FBA-9866-108B8723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1  </a:t>
            </a:r>
            <a:r>
              <a:rPr b="1" lang="hr-HR" sz="3600" spc="-1" strike="noStrike">
                <a:solidFill>
                  <a:srgbClr val="f9a75e"/>
                </a:solidFill>
                <a:latin typeface="Arial"/>
              </a:rPr>
              <a:t>Uvod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i sistem u Jav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Gornji lijevi ugao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UI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mponen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e ima koordin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horizontal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y 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verti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Jedinica mjere je piksel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xel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C2CB-E0D1-45EF-8C50-A21480003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ordinat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i sistem u Javi. Jedinica mjere je piksel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AAEMYSK0"/>
          <p:cNvPicPr/>
          <p:nvPr/>
        </p:nvPicPr>
        <p:blipFill>
          <a:blip r:embed="rId1"/>
          <a:stretch/>
        </p:blipFill>
        <p:spPr>
          <a:xfrm>
            <a:off x="914400" y="2286000"/>
            <a:ext cx="69343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99D0-A912-4D31-907A-57EDCB921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Napomena o portabilnosti 12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1200" y="1873080"/>
            <a:ext cx="7468920" cy="20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i monitori imaju različite rezolucije. Grafički elementi će izgledati različito (različite veličine) zavisno od rezolucij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8:26:58Z</dcterms:created>
  <dc:creator>PT</dc:creator>
  <dc:description/>
  <dc:language>en-US</dc:language>
  <cp:lastModifiedBy>Goran Sukovic</cp:lastModifiedBy>
  <dcterms:modified xsi:type="dcterms:W3CDTF">2018-12-25T12:39:20Z</dcterms:modified>
  <cp:revision>1064</cp:revision>
  <dc:subject/>
  <dc:title>1</dc:title>
</cp:coreProperties>
</file>